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D545-B9C0-4A36-B894-481FA05DADBA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12FF-5736-4D47-9E20-8C50C6E9C0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650960" y="685800"/>
            <a:ext cx="3252960" cy="2438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ka kvaliteta predstavlja dokument najvišeg rukovodstva koj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 odnosi na određene principe koje najviše rukovodstvo želi da saopšti zainteresovanim stranama i po kojima organizacija želi da bude upečatljiva. Možemo da kažemo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d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ka kvaliteta predstavlja jednu izjavu najvišeg rukovodstva organizacije koja daje okvir za postavljanje opštih ciljeva sistema kvaliteta, principa na kojim se sistem kvaliteta organizacije zasniva i prav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a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ovanja. Ključ za sastavljanje politike kvaliteta jeste razumevanje zahteva korisni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Krivokapić 2011, str. 1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D857-D79B-40FC-94D9-BEA83E159A6E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Krivokapić 2011, str. 1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7EE9-84DD-4A93-9E60-39FBF9B99D62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Krivokapić, 2011, str. 1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vor: Dr Milenko Heleta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ktovanje menadžment sistema kvalitet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zitet Singidunum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QMS se definiše i opisuje u dokumentima sistema kvaliteta, sa hijerarhijom kao na slici. Osnovna karakteristika je princip pozivanja na dokumente nižeg nivoa i prenošenje osnovnih principa i pravila iz dokumenta višeg nivoa u referencirane dokumente nižeg nivoa</a:t>
            </a:r>
            <a:r>
              <a:rPr b="0" i="1" lang="sr-Latn-CS" sz="1200" spc="-1" strike="noStrike" u="sng">
                <a:solidFill>
                  <a:srgbClr val="000000"/>
                </a:solidFill>
                <a:uFillTx/>
                <a:latin typeface="Arial"/>
              </a:rPr>
              <a:t>. (Napomena: mogu se grupisati nivoi iz ove hijerarhije u zavinosti od veličine organizacije , a prikazana hijerarhija daje nafleksibilniju organizacij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olitika i ciljevi – dokumentovane izjave o namjerama organizacije i performansama u pogledu kvaliteta koje želi da ostvar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oslovnik o kvalitetu – opis qms i međusobnog djelovanja pojedinih elemenata, upućivanje na dokumente nižeg niv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rocedure – dokument koji opisuje procese, a sadrže i informacije o tome kako se obavljaju aktivnosti u toku procesa,nosioce aktivnosti, kao i potrebne resurse i zapise koji se generišu nakon realizacije aktivnost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radna uputstva- dokument koji detaljno opisuje metodološki odnosno tehnološki način (opis primijenjenih metoda i alata) odvijanja operacija ili zadataka u okviru pojedinih ključnih aktivnosti u određenom procesu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Uputstva kontrolisanja i ispitivanja – dok. koji opisuje način verifikacije- kontrolisanja i ispitivanja proizv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lanovi kvaliteta- dokument koji definiše nalin primjene qms tokom realizacije specifičnog ugovora, projekt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specifikacije,- dokumenti koji sadrže specificirane zahtjeve za proizvod ili tehnološki proc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smjernice- dokument koji sadrži preporuke ili sugestij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crteže- Dokumenti koji sadrže grafičke podatke koji definišu proizvod ili proc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zapisi- dokumenti koji sadrže objektivnu evidenciju o izvršenim aktivnostima, odnosno o ostvarenim rezultatima aktiv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vor: Dr Milenko Heleta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ktovanje menadžment sistema kvalitet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zitet Singidunum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Hijerarhija i struktura sistema u vezi je sa hijerarhijom i strukturom dokumentacije, kako je prikazano na slici: Sistem---:proces----:aktivnost---: zadatak ili oper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Sistem je kao cjelina definisan u politici, ciljevima i u poslovniku o kvalitetu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Menadyment procesa  (struktura procesa, performanse i ciljevi) definisan je u procedurama, a kod manjih organizacija je moguce da procesi budu sastavni dio poslovnika o kvalitetu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radne aktivnosti sa metodologijom i tehnologijom izvršenja operacija su definisane u uputstv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Kod utvrdjivanja broja i redosljeda koraka mora se poći od samog procesa, imajući u vidu, sa jedne strane da njegov svaki korak mora dati odgovore na određena pitanja vezana za samu djelatnost, a  sa druge strane mora ispuniti zahtjeve naznačene u standardima za element QMS kojem pripada dotična procedu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vor: Dr Milenko Heleta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ktovanje menadžment sistema kvalitet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zitet Singidunum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8A17-735F-47E0-B379-B1C466B2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32D0-3978-441F-9E89-11D3ABE7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B764-4EF9-410B-84C2-192B38A0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CEB-F320-49A9-9588-8F398CF0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982A-0FBA-473F-85BF-56F88E84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209E-5751-400C-9683-66FC3073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C396-4876-4388-BB47-97B67418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C3A3-DE0A-4E94-8A0C-2D780425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6842-6914-4CA4-B55C-423CC930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D5CA-58E2-47EE-A72F-D7214E99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A927-6EF8-4F04-899D-21916ABA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C22D-24CB-4FE6-8D5A-E27AE8CF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840F-AD45-40CE-821D-03646D8E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EC28-CB25-4B89-9D33-7A06BA7D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8B35-2B01-4173-9C6E-3103A1E3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8433-5EE8-4C9E-BFEA-1AF3A8BE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0566-A53A-4E36-AA3F-91A872B6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51B1-3951-493C-8EE1-6504A887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26C6-F423-48A4-961D-02E54F1B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D22-D14B-4B7C-B490-5BD0651D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B95-43B0-4D85-BCAA-B8C87A9B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7CA-6037-44CF-AA08-A68E2455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7B4E-E174-4F03-BAC8-ED5DD2E8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0E7-A7F7-46DA-B540-E96BD532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218960" y="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21/02/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E074-5126-4CBF-A438-16532E531FE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7D70-9503-4D71-8520-4FCF69BF30E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ppjedinstvo.co.rs/rs/wp-content/uploads/sites/2/2011/09/Politika-kvaliteta-20180001.pd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hyperlink" Target="http://www.vukovic.at/serbien/Alatnica%20Vukovic%20d.o.o.%20-%20%20POSLOVNIK%20KVALITETA.pdf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30160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Times New Roman"/>
              </a:rPr>
              <a:t>DOKUMENTACIJA 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QMS</a:t>
            </a:r>
            <a:r>
              <a:rPr b="1" lang="sr-Latn-CS" sz="2800" spc="-1" strike="noStrike">
                <a:solidFill>
                  <a:srgbClr val="00ffff"/>
                </a:solidFill>
                <a:latin typeface="Times New Roman"/>
              </a:rPr>
              <a:t>-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828800" y="43430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419"/>
          <p:cNvSpPr/>
          <p:nvPr/>
        </p:nvSpPr>
        <p:spPr>
          <a:xfrm>
            <a:off x="2514600" y="4953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RAVLJANJE KVALITETOM U GRA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ĐEVINARSTV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SLOŽENI OBLIK TOKA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1170000" y="1968480"/>
            <a:ext cx="777240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84240" y="33300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600" spc="-1" strike="noStrike">
                <a:solidFill>
                  <a:srgbClr val="00ffff"/>
                </a:solidFill>
                <a:latin typeface="Times New Roman"/>
              </a:rPr>
              <a:t>POLITIKA I CILJEVI KVALITETA;</a:t>
            </a:r>
            <a:br>
              <a:rPr sz="2600"/>
            </a:br>
            <a:r>
              <a:rPr b="1" lang="sr-Latn-ME" sz="2600" spc="-1" strike="noStrike">
                <a:solidFill>
                  <a:srgbClr val="00ffff"/>
                </a:solidFill>
                <a:latin typeface="Times New Roman"/>
              </a:rPr>
              <a:t>POSLOVNIK O KVALITETU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84240" y="1476000"/>
            <a:ext cx="795816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Politika: sveobuhvatne namjere vođenja organizacije koje se odnose na kvalitet, utvrđene  i iskazane od strane najvišeg rukovodtsva, (obavezno preispitivanje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Njome se utvrđuje stepen prestiža proizvoda na tržištu, definiše se stepen zadovoljstva zahteva potrošača; određuje se oblik odnosa sa proizvođačem opreme; utvrđuje se oblik veze sa potrošačima; utvrđuje se oblik rukovođenja...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primjer na linku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mppjedinstvo.co.rs/rs/wp-content/uploads/sites/2/2011/09/Politika-kvaliteta-20180001.pd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Ciljevi kvaliteta: ono što se traži ili želi postići u vezi sa kvalitetom – proističu iz politike kvaliteta, mogu biti različiti na različitim nivoima organizacije, a na operativnom nivou moraju biti kvantifikovan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2" descr="Politika kvaliteta"/>
          <p:cNvPicPr/>
          <p:nvPr/>
        </p:nvPicPr>
        <p:blipFill>
          <a:blip r:embed="rId2"/>
          <a:srcRect l="2532" t="4068" r="3582" b="6534"/>
          <a:stretch/>
        </p:blipFill>
        <p:spPr>
          <a:xfrm>
            <a:off x="3203640" y="3467160"/>
            <a:ext cx="46227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600" spc="-1" strike="noStrike">
                <a:solidFill>
                  <a:srgbClr val="00ffff"/>
                </a:solidFill>
                <a:latin typeface="Times New Roman"/>
              </a:rPr>
              <a:t>Primjer politike i ciljeva kvalitet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9" name="Content Placeholder 9" descr=""/>
          <p:cNvPicPr/>
          <p:nvPr/>
        </p:nvPicPr>
        <p:blipFill>
          <a:blip r:embed="rId1"/>
          <a:stretch/>
        </p:blipFill>
        <p:spPr>
          <a:xfrm>
            <a:off x="324000" y="2019240"/>
            <a:ext cx="4248000" cy="4459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"/>
          <p:cNvPicPr/>
          <p:nvPr/>
        </p:nvPicPr>
        <p:blipFill>
          <a:blip r:embed="rId2"/>
          <a:srcRect l="0" t="0" r="0" b="6489"/>
          <a:stretch/>
        </p:blipFill>
        <p:spPr>
          <a:xfrm>
            <a:off x="4664160" y="2019240"/>
            <a:ext cx="439092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Poslovnik o kvalitetu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oslovnik o kvalitetu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dstavlja dokument prvog nivoa QMS, a sadrži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pis c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line sistema kvaliteta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brazloženje za isključivanja pojedinih zaht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a standarda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dokumentovane procedure (za procese) ili pozivanje na njih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pis 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redosljeda i interakcije procesa koji su u okviru menadžmenta kvaliteto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Namjena – opis QMS i dokument za sprovođenje i održavanje toga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Struktura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o procesima organizaci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o zahtjevima standar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Generalni sadržaj poslovnik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Uvodni dio (opšte o poslovniku i organizaciji, izjavu o politici kvaliteta, referentne standarde ei propise, definicije i posjmov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Radni dio koji sadrži propise, postupke i uputstva po poglavljima koja su definisana u sadržaju poslovni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2536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600" spc="-1" strike="noStrike">
                <a:solidFill>
                  <a:srgbClr val="00ffff"/>
                </a:solidFill>
                <a:latin typeface="Times New Roman"/>
              </a:rPr>
              <a:t>Primjer sadržaja poslovnika o kvalitetu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4" name="Content Placeholder 3" descr=""/>
          <p:cNvPicPr/>
          <p:nvPr/>
        </p:nvPicPr>
        <p:blipFill>
          <a:blip r:embed="rId1"/>
          <a:stretch/>
        </p:blipFill>
        <p:spPr>
          <a:xfrm>
            <a:off x="1143000" y="1814400"/>
            <a:ext cx="3600360" cy="4896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5011560" y="1844640"/>
            <a:ext cx="3780000" cy="48942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1168560" y="1127160"/>
            <a:ext cx="743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vukovic.at/serbien/Alatnica%20Vukovic%20d.o.o.%20-%20%20POSLOVNIK%20KVALITETA.pd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PROCEDURE I UPUTSTV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7970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1600" spc="-1" strike="noStrike">
                <a:solidFill>
                  <a:srgbClr val="ffffff"/>
                </a:solidFill>
                <a:latin typeface="Times New Roman"/>
              </a:rPr>
              <a:t>Procedure – 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u opštim crtama data uputstva  ko, šta, kako radi; Definiše se tehnologija rada u procesu, utvršuju se aktivnosti i obaveze izvršilaca i dokumentacija koja se koristi ili stva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Radna uputstva – detaljna uputstva  za način obavljanja rada na konkretnom radnom mjestu (ako je procedura detaljna može se izostaviti) </a:t>
            </a:r>
            <a:r>
              <a:rPr b="0" i="1" lang="sr-Latn-ME" sz="1600" spc="-1" strike="noStrike">
                <a:solidFill>
                  <a:srgbClr val="ffffff"/>
                </a:solidFill>
                <a:latin typeface="Times New Roman"/>
              </a:rPr>
              <a:t>„BOLJE JE LJUDE OBUĆAVATI I UVJEŽBAVATI, A NE PISATI IM DETALJNA UPUTSTVA !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Koristiti tekstualne opise, šeme grafikone, tabe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tandard ISO 9001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adži zahteve za šest obaveznih sistemskih dokumentovanih procedur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spcBef>
                <a:spcPts val="400"/>
              </a:spcBef>
              <a:buClr>
                <a:srgbClr val="00ffff"/>
              </a:buClr>
              <a:buSzPct val="12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dura upravljanja dokumenti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spcBef>
                <a:spcPts val="400"/>
              </a:spcBef>
              <a:buClr>
                <a:srgbClr val="00ffff"/>
              </a:buClr>
              <a:buSzPct val="12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dura upravljanja zapisi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spcBef>
                <a:spcPts val="400"/>
              </a:spcBef>
              <a:buClr>
                <a:srgbClr val="00ffff"/>
              </a:buClr>
              <a:buSzPct val="12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dura internih prov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spcBef>
                <a:spcPts val="400"/>
              </a:spcBef>
              <a:buClr>
                <a:srgbClr val="00ffff"/>
              </a:buClr>
              <a:buSzPct val="12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dura upravljanja neusagl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šenim proizvo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spcBef>
                <a:spcPts val="400"/>
              </a:spcBef>
              <a:buClr>
                <a:srgbClr val="00ffff"/>
              </a:buClr>
              <a:buSzPct val="12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dura korektivnih m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spcBef>
                <a:spcPts val="400"/>
              </a:spcBef>
              <a:buClr>
                <a:srgbClr val="00ffff"/>
              </a:buClr>
              <a:buSzPct val="12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dura preventivnih m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Times New Roman"/>
              </a:rPr>
              <a:t>PRIMJER NASLOVNE STRANE PROCEDURE ZA UPRAVLJANJE DOKUMENTIM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47275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ZAPISI O KVALITETU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280" y="2349000"/>
            <a:ext cx="7970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1600" spc="-1" strike="noStrike">
                <a:solidFill>
                  <a:srgbClr val="ffffff"/>
                </a:solidFill>
                <a:latin typeface="Times New Roman"/>
              </a:rPr>
              <a:t>Zapisi o kvalitetu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 – evidencija o kvalitetu – dokazi o usaglašenosti sa zahtjevima (i sa zahtjevima QMS i sa zahtjevima za proizvo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1600" spc="-1" strike="noStrike">
                <a:solidFill>
                  <a:srgbClr val="ffffff"/>
                </a:solidFill>
                <a:latin typeface="Times New Roman"/>
              </a:rPr>
              <a:t>Upravljanje zapisima 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(identifikovanje, zaštita, pretraživanje, vrijeme čuvanja i odbacivanje) mora biti u skladu sa uspostavljenom p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ocedur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o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upravljanja dokumenti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Moraju biti čitki, laki za identifikovanje i pretraživan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STRUKTURA NASTANKA ZAPI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364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84240" y="33300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Times New Roman"/>
              </a:rPr>
              <a:t>Opšti zahtjevi za </a:t>
            </a:r>
            <a:r>
              <a:rPr b="1" lang="sr-Latn-CS" sz="2600" spc="-1" strike="noStrike">
                <a:solidFill>
                  <a:srgbClr val="00ffff"/>
                </a:solidFill>
                <a:latin typeface="Times New Roman"/>
              </a:rPr>
              <a:t>dokumentaciju – standard ISO 9001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84240" y="1476000"/>
            <a:ext cx="795816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Dokumentacija sistema menadžmenta kvalitetom </a:t>
            </a:r>
            <a:r>
              <a:rPr b="1" lang="hr-HR" sz="1600" spc="-1" strike="noStrike">
                <a:solidFill>
                  <a:srgbClr val="ffffff"/>
                </a:solidFill>
                <a:latin typeface="Times New Roman"/>
              </a:rPr>
              <a:t>mora</a:t>
            </a: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 da sadrži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dokumentovane izjave o politici kvaliteta i ciljevima kvalitet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poslovnik o kvalitetu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dokumentovane procedure i zapise koje zahteva ovaj međunarodni standar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dokumente, uključujući i zapise,  utvrđene od organizacije kao potrebne da osigura efektivno planiranje , izvođenje i upravljanje svojim procesi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dokumenti mogu biti na bilo kojem medij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kumentacija doprinosi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Ostvarivanju usaglašenosti sa zahtjevima korisnika i poboljšavanju kvalit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ripremi odgovarajuće obuk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onovljivosti i sledljivos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Stvaranju objektivnog doka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Vrednovanju efektivnosti i stalne pogodnosti QMS-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Dokumentacija predstavlja osnov za ocjenjivanje menadžmenta kvaliteta od strane sertifikacionog tije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Namjene dokumentacij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Saopštavanje informaci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Dokaz usaglašenos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Širenje znan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84240" y="12492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600" spc="-1" strike="noStrike">
                <a:solidFill>
                  <a:srgbClr val="00ffff"/>
                </a:solidFill>
                <a:latin typeface="Times New Roman"/>
              </a:rPr>
              <a:t>Principi i karakteristike </a:t>
            </a:r>
            <a:r>
              <a:rPr b="1" lang="sr-Latn-CS" sz="2600" spc="-1" strike="noStrike">
                <a:solidFill>
                  <a:srgbClr val="00ffff"/>
                </a:solidFill>
                <a:latin typeface="Times New Roman"/>
              </a:rPr>
              <a:t>dokumentacij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12880" y="1268280"/>
            <a:ext cx="811512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rincipi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Hijerarhija – uređenost dokumenta prema nivoima i njihova međusobna usaglašeno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Integracija – dokumentaciije koja proističe iz različitih sistema menadžmenta (npr. sistema  menadžmenta kvalitetom i sistema menadžmeta životnom sredinom..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rimjenljivost – mogućnost primjene u različitim situacijama i potrebama korisnika, uz fleksibilnost u izmjen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Svrsishodnost – mora biti koncipirana tako da ostvari cilj zbog koga je nastala (da saopšti informacije, prući dokaze, širi znanj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Karakteristik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Uvažavanje specifičnosti organizacije – ne može se proto prepisati nečija dokumentacij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Adekvatno šifriranje dokumen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Adekvatan nivo podrazumijevanja (ne treba isticati nebitno, a zanemarivati = podrazumijevati značajn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Adekvatan nivo primjenljivosti – razumljiva korisniku koji je onda bez problema može primjenjiva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Uključenost korisnika – značjana u fazi izrade, kako bi bio što veći nivo primjenljivos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Uključenost zainteresovanih strana u pogledu usaglašavanja dokumentaci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Forma dokumentacije –ne smije biti važnija od suštine - primjeniti procesni prist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Izbjegavanje redudantnosti (ponavljanja) usljed koje može doći do neusaglašenosti u dokumentaciji, teškoća u inoviranju i s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1360" y="220680"/>
            <a:ext cx="8231040" cy="76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Times New Roman"/>
              </a:rPr>
              <a:t>HIJERARHIJA DOKUMENTACIJE QMS-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1" name="Content Placeholder 6" descr=""/>
          <p:cNvPicPr/>
          <p:nvPr/>
        </p:nvPicPr>
        <p:blipFill>
          <a:blip r:embed="rId1"/>
          <a:stretch/>
        </p:blipFill>
        <p:spPr>
          <a:xfrm>
            <a:off x="1498680" y="1365120"/>
            <a:ext cx="717696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1360" y="549360"/>
            <a:ext cx="8231040" cy="7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Times New Roman"/>
              </a:rPr>
              <a:t>IZRADA DOKUMENTACIJE QMS-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3996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Kreiranje dokumentacije može biti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Od vrha ka d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Od dna ka vr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Kombinovano (susretn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Neophodno je analizirati postojeću dokumentaciju (prilikom uvođenja QM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Da bi se koristila pozitivna iskustva i rješenja iz dosadašnje praks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Da bi se izbjeglo ponavljanje greša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Faze izrade (Krivokapić, 2011, str. 151)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Identifikacija potrebe za dokumentom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Izrada dokume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Dobijanje saglasnos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Izdavanje dokume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rimje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STRUKTURA UOBIČAJENE DOKUMENTACIJE I QMS-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07860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METODOLOGIJA DOKUMENTOVANJA PROCES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80424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od projektovanja procesa nije dovoljno samo prika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ti redosljed odvijanja aktivnosti, ve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se moraju dati i informacije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 o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osiocima aktivno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adr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jima aktivno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otrebnim resursim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ula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nim i i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nim dokumentima itd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ocesi se obave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no predstavljaju u grafi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om obliku, a mogu da sadr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e i tekstualne opise aktivno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Opis aktivnosti u grafi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om prikazu toka procesa 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može se vršiti na dva načina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tekstualnim opisom, prema redosljedu aktivnosti u procesu u okviru dokumentovane procedure il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specifikacijom zadataka i operacija u okviru grafičkog dijagrama toka procesa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vaki korak u procesu (aktivnost) mora imati jasno definisan ulaz i izlaz i svojim sadržajem pokazati da je neophodan, da su zahtjevi adekvatno opisani, da izvršioci imaju potrebne resurse, da se performanse mogu mjeriti i da su povratne sprege adekvatne. Pri tome, treba izbjegavati detaljne opise kako se ili po čemu se nešto radi, nego se pozvati na brojeve uputstava, standarda, propisa, tehnologija itd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Ukoliko se predviđaju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moraju se specificirati oznake obrazaca koji se koriste kao zapisi nakon što se određena aktivnost realizuje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vaka procedura ima obavezno grafički prikaz dok uputstvo ima samo tekstualni opis načina ili metoda odvijanja aktivnosti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PRIMJER SIMBOLA ZA OZNAČAVANJE TOKA PROCES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977080" cy="3551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0000" y="5589360"/>
            <a:ext cx="7772400" cy="47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uz ovakav način predstavljanja toka procesa, uvijek mora postojati i tekstualni opis svakog koraka, odnosno aktivnosti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JEDNOSTAVAN OBLIK TOKA PROCES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1170000" y="1994040"/>
            <a:ext cx="77724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3:17:58Z</dcterms:created>
  <dc:creator>Gradjevinski fakultet Podgorica</dc:creator>
  <dc:description/>
  <dc:language>en-US</dc:language>
  <cp:lastModifiedBy>Toshiba</cp:lastModifiedBy>
  <dcterms:modified xsi:type="dcterms:W3CDTF">2019-05-09T12:29:49Z</dcterms:modified>
  <cp:revision>355</cp:revision>
  <dc:subject/>
  <dc:title>4. Upravljanje kvalitetom</dc:title>
</cp:coreProperties>
</file>