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30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media/image21.wmf" ContentType="image/x-wmf"/>
  <Override PartName="/ppt/media/image22.wmf" ContentType="image/x-wm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0A21-D75F-49D0-96DE-7E020802F5F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hyperlink" Target="http://www.cqm.rs/fq2006/pdf/A/19%20-%20Lazic%20M..pdf" TargetMode="External"/><Relationship Id="rId2" Type="http://schemas.openxmlformats.org/officeDocument/2006/relationships/slide" Target="../slides/slide31.xml"/><Relationship Id="rId3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www.cqm.rs/2011/FQ2011/pdf/38/35.pdf" TargetMode="External"/><Relationship Id="rId2" Type="http://schemas.openxmlformats.org/officeDocument/2006/relationships/slide" Target="../slides/slide34.xml"/><Relationship Id="rId3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stupak identifikacije i uspostavljanja relacija izmedju dekomponovanja procesa naziva se mapiranje procesa. Iz prethodnog se može zaključiti da je to početna i vrlo »osetljiva aktivnost« od koje u mnogome zavisi uspeh dizajniranja procesa. To je razlog zbog čega je autor, koristeći teorijske postavke dekompozicije i analize procesa, ukazao na novi pristup mapiranju procesa kombinujući primenu SSA metode za krosfunkcijske i funkcijske procese i HIPO metodu za potfunkcijske procese i operacij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a proces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taje kao rezultat mapiranja procesa. To je grafički prikaz procesa sa prikazanim redosledom zadataka koristeći različite verzije sistema za opis procesa (na primer DTP-dijagram toka, AS2, IDEF i dr). Pri tome se pod mapiranjem podrazumeva aktivnost kreiranja detaljnog dijagrama toka odvijanja procesa sa prikazivanjem ulaza, zadataka i aktivnosti u odgovarajućem redosledu. Mapa procesa, kao rezultat mapiranja procesa, predstavlja model procesa, koji je jedan od fundamena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Heleta, M.: Projektovanje menadžment sistema kvaliteta, Univerzitet Singidunum, Beograd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d definisanja mape procesa, prvo se identifikuju i mežusobno povežu poslovni procesi za realizaciju proizvoda, a zatim i procesi menadžmenta, procesi za podršku i procesi poboljša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voi procesa su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ljučni procesi, Makroprocesi, Procesi, Podprocesi i Aktivnosti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ovoj fazi potrebno je najpre identifikovati ključne i makroprocese. Ključni procesi zavise od delatnosti organizacij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postupku identifikacije procesa utvrđuje se i postojeće stanje procesa (snimanje proces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svaki do identifikovanih procesa definišu se i procesi koji im p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de, ulaze u proces, p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i i aktivnosti koje ih čine, ciljevi, resursi koji su neophodni za ostvarenje ciljeva, način merenja ostvarenja tih ciljeva, izlazi iz procesa i procesi koji im sle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, Helta,  m, Cvetković, D.: Osnove inženjerstva i savremene metode u inženjerstvu, Univerzitet Singidunum, Beograd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yvor Vježbe F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PRIKAZ PRIMENE UTVRĐIVANJA I MERENJA PERFORMANSI PROC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U JEDNOJ GRAĐEVINSKOJ ORGANIZACIJ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Dr Petar Nikšić,dipl.in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800" spc="-1" strike="noStrike">
                <a:solidFill>
                  <a:srgbClr val="000000"/>
                </a:solidFill>
                <a:latin typeface="Arial"/>
              </a:rPr>
              <a:t>Rezime: </a:t>
            </a:r>
            <a:r>
              <a:rPr b="0" i="1" lang="sr-Latn-CS" sz="800" spc="-1" strike="noStrike">
                <a:solidFill>
                  <a:srgbClr val="000000"/>
                </a:solidFill>
                <a:latin typeface="Arial"/>
              </a:rPr>
              <a:t>U radu je prikazan način uspostavljanja, dokumentovanja i primene procesa neophodnih za sistem menadžmenta kvalitetom po zahtevima standarda SRPS ISO 9001:2008 u jednoj građevinskoj organizaciji. Osnovne delatnosti organizacije su izgradnja hidrograđevinskih objekata (šifra delatnosti 45240), projektovanje građevinskih objekata (šifra delatnosti 74202) i inženjering (šifra delatnosti 74203). Procesi su podeljeni na: procese za aktivnosti menadžmenta, procese obezbeđenja resursa, procese realizacije proizvoda i procese merenja, analize i poboljšanja. Dokumentima sistema menadžmenta kvalitetom definisani su: način realizacije, praćenja i kontrole procesa, nosioci pojedinih aktivnosti, potrebni resursi, ulazna i izlazna dokumenta svakog procesa, kao i način analize prikupljenih podataka u cilju stalnog poboljšavanja procesa. </a:t>
            </a:r>
            <a:r>
              <a:rPr b="1" i="1" lang="sr-Latn-CS" sz="800" spc="-1" strike="noStrike">
                <a:solidFill>
                  <a:srgbClr val="000000"/>
                </a:solidFill>
                <a:latin typeface="Arial"/>
              </a:rPr>
              <a:t>Ključne reči: </a:t>
            </a:r>
            <a:r>
              <a:rPr b="0" i="1" lang="sr-Latn-CS" sz="800" spc="-1" strike="noStrike">
                <a:solidFill>
                  <a:srgbClr val="000000"/>
                </a:solidFill>
                <a:latin typeface="Arial"/>
              </a:rPr>
              <a:t>sistem menadžmenta kvalitetom, proces, performance procesa,poboljšavan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IDENTIFIKACIJA PROC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im sertifikacije po standardu IS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01:2008 obuhvata osnovne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e "GRADIS "u koju spadaju izgrad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drograđevinskih objekata (šifra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240), projektovanje građevinskih objekata (šifr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atnosti 74202) i inženjering (šifra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203)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a Gradis je organizovan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a sektora i to tehnič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ktor i sektor opštih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jedničkih poslov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hnički sektor satoji se od sledećih služb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abavka i pripre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perativa (izgradnja, mehanizacija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ržavanj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ojektovanje i inženj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novnu opremu pomoću ko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a obavlja delatnost čin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Građevinska mehanizac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ansportna sredst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stala oprem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organizaciji je uspostavljen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ovani sistem menadžmenta kvalitet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snovan na procesnom pristupu. Procesi s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eljeni na: procese za aktivnosti menadžment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e obezbeđenja resursa, procese realiz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 i procese merenja, analize i poboljšanj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za aktivnosti menadžment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iranje i praćenje poslovan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ravljanje finansijama,uprav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acijom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ispitivanje sistema menadžment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valite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obezbeđenja resurs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ezbeđenje ljudskih resursa i bezbednost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avlje na ra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bezbeđenje i održavanje infrastrukture(mehanizacija, transport, oprem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realizacije proizvoda su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e zahteva kupaca i ugovaranj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bav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iranje i realizacija izgradnje objekt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rada tehničke dokumentacij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ženjer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merenja, anlize i poboljšanj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aćenje i merenje zadovoljstva korisnika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si proces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aćenje i merenje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e prover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na korektivnih mer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imena preventivnih m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Krivokapi, 2011, str. 2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1939-A94C-41C1-A807-BB820E8B3B23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qm.rs/fq2006/pdf/A/19%20-%20Lazic%20M.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2C86-5EF6-4F2C-8850-0B2D13D2D5DF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qm.rs/2011/FQ2011/pdf/38/35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73A3-04DE-4747-829E-ED1FACCC3A66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knj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i prof. Krivokapica je greska, ista slika je data za oba indeksa, na slajdu je to ispravljeno naknad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58C5-EB44-459C-B653-955B148A057B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visno od nivoa i »ugla posmatranja« u organizaciji se procesi mogu komponovati na različite načine. Sigurno da top menadžeri prepoznaju i insistiraju na makroprocesorima (krosfunkcijskim), menadžeri na srednjem nivou su zainteresovani za funkcijske procese, a operativni menadžment na potprocese i eventualno operacije.Sa druge strane evidentna je različitost ciljeva i domena dekompozicije, što uslovljava velike razlike u pristupu dekompoziciji proce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da se posmatraju procesi u organizaciji kao celini, mora se poći od strategijskih ciljeva i identifikovati ključni/osnovni makroprocesi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sfunkcijsk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za koje je zadužen top menadžment. Drugi nivo dekompozicije su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kcijski proces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 identifikovanim taktičkim ciljevima za koje je zadužen menadžment srednjeg nivoa. Treći nivo dekompozicije se odnosi na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tfunkcije i operacij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za koje je odgovoran operativni menadž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ed ovog pristupa, kod nekih autora se koristi funkcionalni pristup, gde se pojedine poslovne funkcije (na primer nabavka) identifikuju sa procesom (u ovom slučaju sa procesom nabavke), a zatim se procedurama vrši povezivanje ovakvih procesa radi dobijanja krosfunkcijskih procesa (na primer projektovanje proizvoda, koje obuhvata proces marketinga, razvoja proizvoda, izrade i ispitivanja prototipa itd.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Katalog procesa—popis svih procesa različitih nivoa dekompozicije u jednoj organizaciji, sa opisom ulaza, izlaza, kriterijuma za ocjenu, nosilaca, odnosno vlasnika procesa i s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211-ED7A-42F4-BAA0-9C29E668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A90-507D-4EC2-9B56-682FEA82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15B-9C09-4319-BB71-0ECBD624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2E4-8D00-47C8-9A7C-AA5E678A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497A-904F-4F5B-A20D-10CB81C3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50E3-51D2-42DF-9A31-CCBFF59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1633-8D92-4B18-B195-6A1D1303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BE83-658F-471C-AB66-6834FEF1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38E-582F-4E14-B592-FB4A3B0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CCA-9456-4C8D-8696-E62D65C4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BBF4-C2F8-46D6-8DF1-3C9704D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CE8-4022-44E8-909D-A206E265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E8E0-3F38-4C90-8CE4-EB87848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FA56-9672-4983-B779-5A1CCBC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1F68-23D4-453B-A99E-E4BCEDFA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44D-69B3-4188-9DAA-39D3BD34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2110-EDCD-448F-896B-FCF1CA4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C55-426A-4BED-962A-326417C6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DCF-341E-4113-9B40-88C7605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812-42F2-4798-91E7-C7E879CF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420-FA5D-46FA-AFBF-C9CE6D27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743-6030-45C3-9D58-B5F8EAC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E79-22DD-4B9C-920D-6D975B9F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BDE-528D-4510-9C28-D7250907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D4FC-DE19-41D6-AF18-F9AECF4E38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885A-8277-414A-A031-487148D916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hyperlink" Target="http://www.cqm.rs/2009/pdf/36/07.pd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ODREĐIVANJE I UPRAVLJANJE PROCESIMA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QMS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-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PROCESNI PRIST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ffff"/>
                </a:solidFill>
                <a:latin typeface="Times New Roman"/>
              </a:rPr>
              <a:t>ILUSTRACIJA PODJELE PROCESA U ORGANIZACIJ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740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ripadnost pojedinih vrsta procesa elementima modela QM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2580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Katalog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rcRect l="10141" t="25087" r="9391" b="10636"/>
          <a:stretch/>
        </p:blipFill>
        <p:spPr>
          <a:xfrm>
            <a:off x="1258920" y="1773360"/>
            <a:ext cx="72993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lasične tehnike analize siste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HIPO (Hierarchical Input Process Output) *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SP (Business System Plann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ADT (Structured Analysis and Design Techniqu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oderne tehn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SSA (Structured System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nalys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AD (Joint application Develop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OA (Objected Oriented Analys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PR (Business Process Reingineer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ME" sz="1200" spc="-1" strike="noStrike">
                <a:solidFill>
                  <a:srgbClr val="ffffff"/>
                </a:solidFill>
                <a:latin typeface="Times New Roman"/>
              </a:rPr>
              <a:t>* više u knjizi Krivokapić 2011, str. 2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 /3/</a:t>
            </a:r>
            <a:br>
              <a:rPr sz="3400"/>
            </a:b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Metode dekompozicije i analize procesa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Redosljed i međusobno djelovanje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reža procesa –čine je međusobno povezani procesi, koji su povezani preko ulaza i izl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apiranje proces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ostupak identifikacije i uspostavljanja relacija izm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 dekomponov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ih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proces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apa procesa – model procesa 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fički prikaz procesa sa prikazanim redosledom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 vezama, može biti i u obliku matrice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azličiti oblici poveza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rganizacion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unkcional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pravljač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mape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5230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imjer mape procesa-slučaj proizvodnje za poznatog kupc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PRIMJER MAPE PROCESA GRADJEVINSKOG PREDUZEĆ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476360" y="1670040"/>
            <a:ext cx="7667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matričnog (tabelarnog) zapisa mape procesa (interakcije procesa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rcRect l="12304" t="11537" r="8952" b="4464"/>
          <a:stretch/>
        </p:blipFill>
        <p:spPr>
          <a:xfrm>
            <a:off x="179280" y="2981160"/>
            <a:ext cx="4608720" cy="3687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4398840" y="1752480"/>
            <a:ext cx="4545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611280" y="2365200"/>
          <a:ext cx="806112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65200"/>
                    <a:ext cx="806112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Organizaciona povezanos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Šta j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oces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je skup međusobno povezanih ili djelujućih aktivnosti koji pretvara ulazne elemente u izlaz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ROCESI – AKTIVNOSTI - ZADACI (OPERACIJ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vrha procesa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prinosi realizaciji proizvoda prihvatljivih za naručio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Glavne karakteristike procesa su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krajnje tačke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lazi, izlazi, kupci i uslovi za odvijanje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transformacije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izičke, lokacijske i transakcione aktivnosti uz angažovanje resur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povratna sprega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trebe i očekivanja kupca, specifični ciljevi kupca, glas kupca, specifični ciljevi procesa i glas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ponovljivost pri istom ulaz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lasnik i menadžer procesa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za procese kojima se upravl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Vlasnik – odgovoran za funkcionisanje procesa (po pravilu je rukovodilac funkcije u kojoj se obavlja najveći dio proce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enadžer je obavezan da operativno upravlja realizacijom ugovora, projekta ili proizvoda u okviru procesa (najčešće je vlasnik istovremeno i menadž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755640" y="1946160"/>
          <a:ext cx="815508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46160"/>
                    <a:ext cx="81550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Funkcionalna povezanost ulazno-izlaznim element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2268360" y="2565360"/>
          <a:ext cx="50752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50752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Funkcionalna povezanost zajedničkim ulaznim element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1781280" y="2525760"/>
          <a:ext cx="654984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2525760"/>
                    <a:ext cx="654984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Upravljačka povezanos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Dekompozici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 rot="5400000">
            <a:off x="1526040" y="-508680"/>
            <a:ext cx="584028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c) Kriterijumi i metode  za efektivno upravljanje proces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dentifikovanje kriterijuma za mjerenje performans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Broj kriterijuma po proces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 kriterijuma i karakteristika praćenja proizvod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kapacitet proizvodne linije (u proizvedenim komadima, u šaržama, i sl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za proizvodnju jednog jediničnog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škarta (dalje može po vrstama škar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za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na, dorada i opr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troše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za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na, dorada i opr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čekanja na sl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deću operaci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kretanja ljudi, materijala,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preko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rnog procesiranja u tehnološkoj linij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neplanirani zastoj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trošak energ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ponovnih kontrolisanja i ispitivanj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imjeri praćen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ffff"/>
                </a:solidFill>
                <a:latin typeface="Times New Roman"/>
              </a:rPr>
              <a:t>Primjeri praćenja procesa pružanja uslu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ukupan broj korisnika po s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ni / dnevno / nedeljno / 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sečno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korisnika po uslužnom 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st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svećeno svakom korisnik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za pretraživanje podatak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čekanja na realizaciju usluge na uslužnom me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ffff"/>
                </a:solidFill>
                <a:latin typeface="Times New Roman"/>
              </a:rPr>
              <a:t>Primjeri praćenja procesa prod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zaposlenih u prodaj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poslatih ponuda po zaposlen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odnos broja ponuda poslatih poštom,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e-mailom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, faks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da se sastavi pon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za sastavljanje tenderske dokumenta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komunikacije sa korisnic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ostvarenih ponuda po zaposlen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imjeri praćen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i praćenja procesa nab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odnos planirane i ukupne nabavk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isporuk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zaposlenih u nabavc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elektronskih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vraćenih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dobavljača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eklamacija čiji je uzrok nabavk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i praćenja procesa upravlj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korektivnih mera koje se ne ponavlja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korektivnih mera koje nisu zatvorene u predviđenom vremenskom periodu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preventivnih mera koje su se kasnije pretvorile u korektivne m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ostvarenih cilje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sprovedenih preispitivanja od strane rukovodst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e) Praćenje i mjerenje performansi procesa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35272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jerenje i praćenje preformansi procesa su osnovni alati menadžmenta za vrednovanje procesa i iznalaženje mogućnosti za poboljšavanje u skladu sa ciljevima organiz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a osnovu utvrđenih performansi (parametara koji se mjere) potrebno je utvrditi i kriterijume za ocjenu uspješ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Vrši se periodično ili kontinual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sebno treba utvrditi i važnost performansi (parametara) koje se mj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ezultati mjerenja se mogu upisivati u tabele u kojim su upisane i ciljne vrijed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nformacije o ciljevima, praćenjima, mjerenjima su interesantne i za procjenu opravdanosti utvrđenih korektivnih mj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1893960" y="1765440"/>
            <a:ext cx="5667480" cy="1376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132160" y="1946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menadžment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2882880" cy="3240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"/>
          <p:cNvGrpSpPr/>
          <p:nvPr/>
        </p:nvGrpSpPr>
        <p:grpSpPr>
          <a:xfrm>
            <a:off x="5364000" y="2060640"/>
            <a:ext cx="2779920" cy="3959280"/>
            <a:chOff x="5364000" y="2060640"/>
            <a:chExt cx="2779920" cy="3959280"/>
          </a:xfrm>
        </p:grpSpPr>
        <p:pic>
          <p:nvPicPr>
            <p:cNvPr id="223" name="Picture 7" descr=""/>
            <p:cNvPicPr/>
            <p:nvPr/>
          </p:nvPicPr>
          <p:blipFill>
            <a:blip r:embed="rId2"/>
            <a:stretch/>
          </p:blipFill>
          <p:spPr>
            <a:xfrm>
              <a:off x="5450040" y="3343680"/>
              <a:ext cx="2693880" cy="26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" descr=""/>
            <p:cNvPicPr/>
            <p:nvPr/>
          </p:nvPicPr>
          <p:blipFill>
            <a:blip r:embed="rId3"/>
            <a:stretch/>
          </p:blipFill>
          <p:spPr>
            <a:xfrm>
              <a:off x="5364000" y="2060640"/>
              <a:ext cx="2693880" cy="59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obezbjeđenja resur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26" name="Group 11"/>
          <p:cNvGrpSpPr/>
          <p:nvPr/>
        </p:nvGrpSpPr>
        <p:grpSpPr>
          <a:xfrm>
            <a:off x="2987640" y="2637000"/>
            <a:ext cx="2585880" cy="3239640"/>
            <a:chOff x="2987640" y="2637000"/>
            <a:chExt cx="2585880" cy="3239640"/>
          </a:xfrm>
        </p:grpSpPr>
        <p:pic>
          <p:nvPicPr>
            <p:cNvPr id="227" name="Picture 8" descr=""/>
            <p:cNvPicPr/>
            <p:nvPr/>
          </p:nvPicPr>
          <p:blipFill>
            <a:blip r:embed="rId1"/>
            <a:stretch/>
          </p:blipFill>
          <p:spPr>
            <a:xfrm>
              <a:off x="2988720" y="3320640"/>
              <a:ext cx="2584800" cy="25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9" descr=""/>
            <p:cNvPicPr/>
            <p:nvPr/>
          </p:nvPicPr>
          <p:blipFill>
            <a:blip r:embed="rId2"/>
            <a:stretch/>
          </p:blipFill>
          <p:spPr>
            <a:xfrm>
              <a:off x="2987640" y="2637000"/>
              <a:ext cx="2584800" cy="71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Veze između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8" name="Content Placeholder 3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40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realizacije proizvod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2448000" cy="51544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12"/>
          <p:cNvGrpSpPr/>
          <p:nvPr/>
        </p:nvGrpSpPr>
        <p:grpSpPr>
          <a:xfrm>
            <a:off x="5292720" y="1469880"/>
            <a:ext cx="2664000" cy="5013000"/>
            <a:chOff x="5292720" y="1469880"/>
            <a:chExt cx="2664000" cy="5013000"/>
          </a:xfrm>
        </p:grpSpPr>
        <p:pic>
          <p:nvPicPr>
            <p:cNvPr id="232" name="Picture 8" descr=""/>
            <p:cNvPicPr/>
            <p:nvPr/>
          </p:nvPicPr>
          <p:blipFill>
            <a:blip r:embed="rId2"/>
            <a:stretch/>
          </p:blipFill>
          <p:spPr>
            <a:xfrm>
              <a:off x="5292720" y="1469880"/>
              <a:ext cx="2664000" cy="177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0" descr=""/>
            <p:cNvPicPr/>
            <p:nvPr/>
          </p:nvPicPr>
          <p:blipFill>
            <a:blip r:embed="rId3"/>
            <a:stretch/>
          </p:blipFill>
          <p:spPr>
            <a:xfrm>
              <a:off x="5299920" y="3173760"/>
              <a:ext cx="2643120" cy="330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00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posobnost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dnosi se n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Sposobnost da se zadovolje ciljevi kvaliteta (ciljna sposobno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aslijeđena sposobnost da se neprekidno reprodukuje rezultat (sposobnost procesa u užem smisl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naliza sposobnosti procesa je ispitivanje varijacija raspodjele karakteristika procesa sa ciljem ocjene sposobnosti procesa  za izradu proizvoda u granicama rasipanja utvrđenim tehničkim zahtjev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naliza sposobnosti procesa ili opreme se izvodi sa ciljem ocjene usaglašenosti parametara procesa ili opreme sa zahtjevima kvaliteta definisanim crtežima, specifikacijama, u procesu proizvodnje i u probnoj proizvodnji, pre i na početku serijske proizvodnje, ali i u cilju identifikovanja karakteristika procesa potrebnih za projektovanje mjera i primjenu metoda i tehnika unapređenja kvalitet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Kroz analizu i ocenu sposobnosti procesa (opreme) se formira odgovor na pitanje: da li su operacija (proces), radnikoperator, mašina, alat i pribor u stanju da obezbede zahtevani nivo kvaliteta proizvod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Za ocjenu sposobnosti procesa koriste s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Dijagram rasip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Kontrolne k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ndeksi sposob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00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Dijagram rasipanja za ocjenu sposobnosti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Za dijagram rasipanja potrebno je znati statističke parametare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rednje aritmetičke vrijednosti (aritmetičke sredi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andardnog odstupanja 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čekivano rasipanje procesa odgovara normalnoj raspodjeli: u granicama DGT i GGT – donja i gornja granica tolerancije koje su utvrđene tehničkim specifikacijama treba da se nađe 99,73% usaglašenih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755640" y="3255840"/>
            <a:ext cx="2492280" cy="1451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6197760" y="3255840"/>
            <a:ext cx="274464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3419640" y="4724280"/>
            <a:ext cx="2649240" cy="1962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197760" y="4734000"/>
            <a:ext cx="27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Stvarno rasipanje (primjer za nesposoban proc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32880" y="473400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Očekivano rasipanje proces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4" name="Content Placeholder 9" descr=""/>
          <p:cNvPicPr/>
          <p:nvPr/>
        </p:nvPicPr>
        <p:blipFill>
          <a:blip r:embed="rId1"/>
          <a:stretch/>
        </p:blipFill>
        <p:spPr>
          <a:xfrm>
            <a:off x="3059280" y="4292640"/>
            <a:ext cx="3816360" cy="2371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169640" y="1258560"/>
            <a:ext cx="7745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istorijskih podataka i statistike su određene kontrolne granice (granice rasipanja, najčešće na osnovu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) i centralna tendencij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onja kontrolna granica DKG (lower control limit LCL) najčešće na osnovu gornja kontrolna granica GKG (upper control limit UCL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centralna tendencija (srednja aritmetička vrijedno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ima se više manjih uzoraka tokom vremen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uzorka sračunava se jedan ili više statističkih parametara )aritmetićka sredina, odstupanje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cjena procesa na osnovu kontrolnih kara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pod statist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m kontrolom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ko se 2/3 vrednosti kontrolisanih parametara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nalazi unutar centralne trećine kontrolne karte, u zoni širine ± 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oko centralne linij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izvan statist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 kontrol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468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Indeksi sposobnosti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69640" y="1344240"/>
            <a:ext cx="7745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osobnost procesa se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ešć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spituje, analizira i ocenjuje koriš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jem indeksa sposobnosti kao što s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eks potencijala ili preciznosti procesa Cp (mera rasipanja procesa)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- ukazuje na preciznost i rasipanje procesa, pa se često naziva i indeksom preciznost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eks sposobnosti - ta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sti Cpk (mera podešenosti procesa)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Indeks sposobnosti procesa ukazuje na podešenost procesa (položaj procesa u odnosu na granice specifik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 pokazatelja sposobnosti procesa i opreme Cp, CPU, CPL, k i Cpk su potpun skup pokazatelja sposobnosti - kvaliteta procesa (tabela 1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Content Placeholder 4" descr=""/>
          <p:cNvPicPr/>
          <p:nvPr/>
        </p:nvPicPr>
        <p:blipFill>
          <a:blip r:embed="rId1"/>
          <a:stretch/>
        </p:blipFill>
        <p:spPr>
          <a:xfrm>
            <a:off x="1908000" y="3701880"/>
            <a:ext cx="6507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00ffff"/>
                </a:solidFill>
                <a:latin typeface="Times New Roman"/>
              </a:rPr>
              <a:t>Indeks potencijala i indeks sposobnost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0" name="Content Placeholder 6" descr=""/>
          <p:cNvPicPr/>
          <p:nvPr/>
        </p:nvPicPr>
        <p:blipFill>
          <a:blip r:embed="rId1"/>
          <a:srcRect l="-3577" t="0" r="-3577" b="0"/>
          <a:stretch/>
        </p:blipFill>
        <p:spPr>
          <a:xfrm>
            <a:off x="250920" y="2205000"/>
            <a:ext cx="4332240" cy="291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5265720" y="2490840"/>
            <a:ext cx="3282840" cy="3585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684360" y="5300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Izvor:Krivokapić 2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4583160" y="6222960"/>
            <a:ext cx="39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Izvor:  Lazić (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cqm.rs/2009/pdf/36/07.pdf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246560" y="1405080"/>
            <a:ext cx="488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deks sposobnosti - ta</a:t>
            </a: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sti Cpk (mera podešenosti procesa)</a:t>
            </a: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Indeks sposobnosti procesa ukazuje na podešenost procesa (položaj procesa u odnosu na granice specifikacij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00ffff"/>
                </a:solidFill>
                <a:latin typeface="Times New Roman"/>
              </a:rPr>
              <a:t>Koristi od procesnog pristup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Integrisanje i postavka procesa radi postizanja planiranih rezult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Umsjeravanje na efektivnosti efikas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varanje povjerenja kod korisnika i drugih zainteresovanih stranau vezi konzistentnih performansi organiza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vnost rada u organizaci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manjenje troškova i vremena ciklusa kro efektivno korišćenje resu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Bolji, konzistentni i predvidljivi rezult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varanje pretpostavki za poboljšavan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imulisanje aktivnog učešća zaposlenih i preciziranje njihove odgovor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pšti zahtjevi za procese</a:t>
            </a: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 – standard ISO 900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rganizacija mora da uspostavi, dokumentuje, primenjuje i održava QMS i da stalno poboljšava njegovu efektivnost, u skladu sa zahtjevima ovog međunarodnog standarda, a to znači da mora 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identifikuje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neophodne z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MS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i da ih primjenjuje u cijeloj organizaci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redi redosled i m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đusobno djelovanj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redi kriterijume i metode potrebne da se obezbijedi, da izvo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enje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i upravljanje njima, bude efektivn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sigura raspoloživost resursa i informacija neophodnih za podršku izvođenju i praćenju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rati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, mjeri i analizira njihove performanse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rimjenjuje mjere potrebne za ostvarivanje planiranih rezultata i stalno poboljšavanje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600" spc="-1" strike="noStrike">
                <a:solidFill>
                  <a:srgbClr val="00ffff"/>
                </a:solidFill>
                <a:latin typeface="Times New Roman"/>
              </a:rPr>
              <a:t> /1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rocesi treba da omoguće ostvarenje cilja organizacije, pa se njihova identifikacija vrši na osnov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zahtjeva kup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litike i ciljev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Koraci u identifikaciji procesa sastoje se od identifikacij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očekivanja korisnika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ilja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zl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l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rve aktivnosti  (koja se prva izvodi u proces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slednje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nterfejsa (veze sa drugim procesima i oblasti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trebnih resur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ticajnih fakt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Dodatnih elemenata (radnih uputstava i sl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ff"/>
                </a:solidFill>
                <a:latin typeface="Times New Roman"/>
              </a:rPr>
              <a:t>CILJ IDENTIFIKACIJE PROCESA JE UTVRDITI KATALOG PROCESA, NAROČITO ONIH KOJI SU ZNAČAJNI ZA ISPUNJENJE CILJEV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 /2/</a:t>
            </a:r>
            <a:br>
              <a:rPr sz="3400"/>
            </a:b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Aspekti dekompozicije procesa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752480"/>
            <a:ext cx="811548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vo menad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ment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op menadžment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enadžment na srednjem nivou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perativni menadžme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Ciljevi proces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strategijsk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aktički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perativn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blast (domen)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rganizacija u cjelin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slovna funkcija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tfunkcije i oper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na osnovu ostvarivanja ciljeva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akroprocesi – imaju ulogu u više funkcija (npr. Planiranje i razvoj novog proizvoda.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ezoprocesi – obavljaju se pretežno u okviru jedne funkcije, ali uz pomoć ili sa djelimičnim učešćem uloga iz drugih funkcija (npr. Upravljanje troškovi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ikroprocesi – obavljaju se u jednoj funkcionalnoj sredini (tzv. Operativni procesi proizvodnje, skladištenja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djela procesa u organizaciji /1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4032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vr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menadžmen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strateškog planiranja (uspostavljanje vizije misije, politike, ciljeva, komunikacija, resursa, praćenje troškova, analiza koristi i rizika, preispitivanje od strane rukovodstv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drška menadžmentu poslovnih procesa (resursi za QMS)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administrativni procesi (za definisanje, održavanje i administrativno poboljšavanje QM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slovni procesi (transformacija koja obezbjeđuje željeni izlaz)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koji se odnosi na kup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projektovanja i razvoja (samo za organizacije koje samostalno vrše ove aktivnosti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nabavk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proizvodnje ili realiz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za podršku (pomažu efikasno i efektivnu realizaciju poslovnih proces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poboljšanja i inovacija (procesi u kojima se vrše provjere, analize, ocjene i generišu poboljšanja proizvoda, procesa i sistema u cjelini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značaj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ključni procesi – čine ih ključne aktivnosti poslovnih procesa u kojima se neposredno kreiraju vrijednosti za korisni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tprocesi – detaljniji prikaz grupa aktivnosti, odnosno zadata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djela procesa u organizaciji /2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14032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 ISO 900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realizacije- procesi koji direktno utiču na zadovoljenje zahtjeva i potreba korisnik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podrške –procesi koji su podrška procesima realiz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upravljanja – procesi koji obezbjeđuju povezanost procesa realizacije  i podršk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43768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3:17:58Z</dcterms:created>
  <dc:creator>Gradjevinski fakultet Podgorica</dc:creator>
  <dc:description/>
  <dc:language>en-US</dc:language>
  <cp:lastModifiedBy>Toshiba</cp:lastModifiedBy>
  <dcterms:modified xsi:type="dcterms:W3CDTF">2019-05-09T11:38:30Z</dcterms:modified>
  <cp:revision>349</cp:revision>
  <dc:subject/>
  <dc:title>4. Upravljanje kvalitetom</dc:title>
</cp:coreProperties>
</file>