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png" ContentType="image/png"/>
  <Override PartName="/ppt/media/image29.wmf" ContentType="image/x-wmf"/>
  <Override PartName="/ppt/media/image11.png" ContentType="image/png"/>
  <Override PartName="/ppt/media/image48.wmf" ContentType="image/x-wmf"/>
  <Override PartName="/ppt/media/image13.wmf" ContentType="image/x-wmf"/>
  <Override PartName="/ppt/media/image30.wmf" ContentType="image/x-wmf"/>
  <Override PartName="/ppt/media/image5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46.png" ContentType="image/png"/>
  <Override PartName="/ppt/media/image47.wmf" ContentType="image/x-wmf"/>
  <Override PartName="/ppt/media/image4.png" ContentType="image/png"/>
  <Override PartName="/ppt/media/image5.wmf" ContentType="image/x-wmf"/>
  <Override PartName="/ppt/media/image35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396B-5DE0-42DA-835C-7888835BA89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fsb.unizg.hr/atlantis/upload/newsboard/01_01_2012__9063_Kontrola_kvalitete.pdf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crnarupa.singidunum.ac.rs/Elektronska%20biblioteka/I%20godina%202009%20-%2010/FIM/In&#382;enjerski%20menad&#382;ment/Osnove%20in&#382;enjerstva%20-%20Prof.%20dr%20Milenko%20Heleta/Osnove%20inzenjerstva%20-%20UDZBENIK.pdf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:KONTROLA KVALIT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Prof.dr.sc.Vedran Mudro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b.unizg.hr/atlantis/upload/newsboard/01_01_2012__9063_Kontrola_kvalitete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ontrolne karte za mjerljive karakteristi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je uvid u kretanje procesa na osnovu statističke teorije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jerojatnosti, a njom se registriraju dva važna pokazatelja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aritmetičkih sredina uzoraka 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raspona uzorak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vi podatak daje uvid u centriranost procesa, dok drugi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govori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jegovom rasipanj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jena joj dolazi kod izražaja kod serijske i velikoserijske komadn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izvodnje gdje se kontrola svodi na mjerenje malih uzoraka (n=2 do 10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omada), te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oškovi kontrole znatno sman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 osnovu krivulje normalne razdiobe moguće je sagledati kako se dolaz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 kontrolnih granica i na čemu se temelji osjetljivost ove kar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to ka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tako 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a prati dvije karakteristike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u centriranost preko kretanja aritmetičkih sredina uzora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o rasipanje preko kretanja standardnih odstupa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dući da se računaju standardna odstupanja uzoraka, uzorci trebaju b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i nego kod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e. Tako se preporuča da veličina uzorka bud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a od 2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ga se ove karte primjenjuju u procesima koji su zaokruženog tipa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vijaju se u zatvorenim ciklusima određene dužine trajanja kada s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 ne može prat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 je ciklus u toku, nego se na kraju ciklus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gu uzeti veći uzorci i koristeć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rte donositi zaključke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2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:KONTROLA KVALIT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Prof.dr.sc.Vedran Mudro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www.fsb.unizg.hr/atlantis/upload/newsboard/01_01_2012__9063_Kontrola_kvalitete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ontrolne karte za mjerljive karakteristi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je uvid u kretanje procesa na osnovu statističke teorije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jerojatnosti, a njom se registriraju dva važna pokazatelja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aritmetičkih sredina uzoraka 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raspona uzorak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vi podatak daje uvid u centriranost procesa, dok drugi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govori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jegovom rasipanj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jena joj dolazi kod izražaja kod serijske i velikoserijske komadn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izvodnje gdje se kontrola svodi na mjerenje malih uzoraka (n=2 do 10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omada), te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oškovi kontrole znatno sman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 osnovu krivulje normalne razdiobe moguće je sagledati kako se dolaz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 kontrolnih granica i na čemu se temelji osjetljivost ove kar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to ka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tako 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a prati dvije karakteristike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u centriranost preko kretanja aritmetičkih sredina uzora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o rasipanje preko kretanja standardnih odstupa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dući da se računaju standardna odstupanja uzoraka, uzorci trebaju b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i nego kod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e. Tako se preporuča da veličina uzorka bud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a od 2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ga se ove karte primjenjuju u procesima koji su zaokruženog tipa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vijaju se u zatvorenim ciklusima određene dužine trajanja kada s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 ne može prat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 je ciklus u toku, nego se na kraju ciklus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gu uzeti veći uzorci i koristeć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rte donositi zaključke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Krivokapic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F1D6-4D49-4102-8B51-9F48B9A567C1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to princip se zasniva na nejednakoj raspodeli stvari u univerzumu. Ovaj princip tvrdi da 80% od celine vodi porekl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d značajne manjine, dok samo 20% vodi poreklo od trivijalne većin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o pravilo je postavio italijanski ekonomista Vilfredo Pareto u kasnom devetnaestom veku. Ustanovio je da je distribucija dobara u društvu neravnopravna: većinu novca je držao mali broj ljudi. Ovo pravilo je primenljivo i u drugim oblastima biznisa i, konačno, i u kontroli (i upravljanju) kvalit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sfak.ni.ac.rs/images/upload/Upis/MAS_prirpemna_n/uvod_u_m_-_pripremna/5._Alati_kvaliteta-Pareto_metoda.pdf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to dijag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reto dia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alat kvaliteta koji služi za određivan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eta prilikom rešavanja problema i veoma je lak za primenu. Upotrebljava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da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rok nekog problema višestruk pa je potrebno odrediti gde će primenje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a imati najveći efekat. Nakon evidentiranja broja pojavljivanja izvesnih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jav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zroka problema) formira se histogram. Sređivanjem histograma u oblik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adajućeg niza može se uočiti na koji aspekt nekog problema treba prvo obrat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žnju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to pravilo ukazuje da se rešenjem 30% najvažnijih problema mož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ići 70% planiranog poboljšanja. Procenjivanjem efekata mogućih grešak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jivanje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sleda važnosti prilikom njihovog eliminisanja, mogu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no koristiti resursi i sa manjim ulaganjem postići dobri rezultati. Paret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 se koristi u svi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astima sistema kvaliteta gde je moguće identifikova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ške i troškove koji nastaju usled tih grešaka. Pravilo "70-30", ili "80-20"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alno pravilo koje nije nov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građevinarstvo. Pravilo se može primen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likom procene troškova preko troškovno značajnih pozici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* Izvo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ef.unibl.org/literatura/463876Vjezbe_-_Pareto_(ABC)_analiza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g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alat koji pomaže da se brzo uoči tip raspodele z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orke koji sadrže veliki broj podataka. Izradi histograma prethodi: izručanav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spona populacije, određivanje intervala klasa, izrada tabela učestalosti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đivanje granica klasa, sračunavanje središta klasa i određivanje učestalo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brojavanjem uzorka. Na osnovu ovih podataka crta se histogram. Na osnov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gleda histograma donose se zaključci o statističkoj prirodi populaciji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i s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bro poznati iz matematičke statistike i imaju primenu u razni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astima planiranja u građevinarstvu (dinamički planovi angažovanja radn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ge i finansijskih sredstava …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jagram rasipanj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atter dia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jednostavan alat koji služi z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vrđivanje stepena korelacije između dve promenljive. Dijagram rasipanja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uzet iz obla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matičke statistike. Korelacija može biti pozitivn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na. Koristi se prilikom analize korelacije između: karakteristike entitet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ora koji utiču na nju, dv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akteristike kvaliteta ili dva faktora koji utiču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u karakteristiku. Uz dijagram rasipanja računa se koeficijent korelacije i kori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iona an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agram toka (flow chart) je osnovni alat kojim se analizira proces pre nego što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rimeni neka od složenijih tehnika kvaliteta. Dijagram toka je grafički prikaz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čitavo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ka procesa simbolima, pri čemu je važno da se obuhvate sve aktivnosti 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jihove ulazne i izlazne veličine. Analizom dijagrama toka mogu se uočit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ravilnos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vijanju procesa i mesta potencijalnih problema. Može se uočit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ija sa kartom tehnološkog procesa koja predstavlja polaznu tačku u analiz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i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đevinskih rado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stičko upravljanje proces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tistical Process Contr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se razvilo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novu kontrolnih karata i studija sposobnosti procesa. Kada se rezultati proces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laz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viru kontrolnih granica kontrolnih karti kaže se da je proces "pod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om". Međutim, i proces koji je "pod kontrolom" može proizvesti loš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izvode. Prav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e procesa se ogleda u ponovljivosti proces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glašenosi procesa sa zahtevima kupaca. Ova osobina procesa se naziv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sobnost procesa ili preciznije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sa procesa u toku izvesnog vreme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koji je proces pod kontrolom†. Studije sposobnost su zasnovane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antitativnim pokazateljima performans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a, tzv. indeksima sposobno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a. Pomoću studija sposobnosti se objektivno meri stepen u kome proces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dovoljava zahteve kupaca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e procesa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leda u povećanju sposobnosti procesa, a statističk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avljanje procesom ima za cilj postizanje maksimalne sposobnosti procesa koj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 "pod kontrolom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olovanom primenom statističke kontrole procesa se ne mogu eliminisa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i, ali se mogu: pribaviti objektivne informacije o performansama procesa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zbed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cije za donošenje odluka o poboljšanju procesa kroz smanjen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jacija i postići stabilnost pro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b.rs/blog/fmea-failure-mode-effect-analysis-aleksandar-teofilovic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je razvila NASA sredinom šezdesetih godina prošlog veka za Apoll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metoda se koristi za identifikovanje potencijalnih nedostataka procesa i naknadnog postavljanja tih nedostataka na listu prioriteta na osnov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biljnosti (severity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ovatnoće pojavljivanja (occurance),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ovatnoće detektovanja (detection) tih nedostata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Čitava ideja FMEA je da se istaknu slabosti kroz postavljanje liste prioriteta nedostataka u samom procesu, što se čini računanjem RPN broja. RPN broj je generisan broj zasnovan na FMEA formuli, što ukazuje na otkaze u sistemu koji zahtevaju hitnu pažnj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širem smislu FMEA metoda obuhvata sledeće kor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čiti pro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moguće načine otkaza (Failure Mode) unutar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moguće efekte svakog otkaza (Potential Failure Eff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ozbiljnost (Severity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verovatnoću pojavljivanja (Occurance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verovatnoću detektovanja (Detection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računati “Broj prioriteta rizika” tzv. RPN – Risk Priorit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irati rizike prema R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aktivnosti za umanjenje kritičnih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računati nove RPN sa umanjenim ili uklonjenim kritičnim otkaz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je tehnika koja daje odgovor na pitanje: Šta može da otkaže; Kako otkazuje;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lik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čest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 otkazu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e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oji su efekti otkaz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Koje su posle otkazivanja po pouzdan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sigurnost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ne liste (cheklsits) su formulari za prikupljanje ili proveru podataka. Jedan od najjednostavnijih alata kvaliteta koji imaju dvostruku namenu: učiniti jednostavnim sakupljanje podataka i automatski urediti podatke u formu pogodnu za dalju upotrebu. Mogu se javljati u različitim oblicima a najčešće su u obliku tabela ili liste pit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C17D-B78F-4F6C-8C71-B1D3766F4321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Stojadinović Zoran: Upravljanje kvalitetom na građevinskim projektima  (magistarska teza), Beograd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901-8B0F-4EBB-82AE-957735D67F08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FD  (Quality Function Deployment) se definiše kao: "sistem za prevođenj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hteva kupaca u odgovarajuće zahteve preduzeća na svim nivoima koji uključuju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zvoj,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kovanje, proizvodnju, distribuciju, instalaciju, marketing, prodaju 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lugu“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imenom QFD metode se zahtevi kupaca pretvaraju u konkretn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rakteristik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zvoda, karekteristike delova proizvoda i karakteristika procesa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FD je u najširem smislu instrument planiranja. QFD treba razumeti kao stil rada,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oji se od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dicionalnog pristupa razlikuje u tri najvažnije karakteristike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vo, zahtevi kupaca se pribavljaju i prikazuju putem niza grafikona koji svojim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zgledom podsećaju na crtež kuće, po čemu su dobili ime "kuće kvaliteta". Čitav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kumentacija rada se vodi u okviru kuća kvaliteta. Izgled kuća kvaliteta s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unjuju tokom rada u skladu sa nivoom informacija o procesu sa kojim s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polaže.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va kuća kvaliteta sadrži osnovne zahteve kupaca. Druga kuć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valiteta sadrži podatke o karakteristikama delova proizvoda. U trećoj kuć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valiteta za karakteristik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ova proizvoda treba definisati merodavn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rakteristike procesa. U okviru četvrte kuće kvaliteta se razvijaju radna uputstv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proced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ugo, koncept isporučilac-korisnik lanaca se primenjuje u potpunosti. Svak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tivnost u okviru procesa ima svog isporučioca i korisnika sve do poslednj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tivnosti čiji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 korisnik kupa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će, zbog upotrebe multidisciplinarnih timova, organizaciona ograničenja u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gledu funkcionalnih jedinica i vertikalnih linija komunikacije se prevazila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oristi od primene QFD metode su: poboljšan kvalitet, povećano zadovoljstvo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paca, povećana produktivnost, smanjenje vremena i troškova za razvoj 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iranje,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oljšana komunikacija i dokumentacij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i proučavamo samo kuću kvaliteta sa aspekta metoda upravljanja kvalit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057-87C1-4B93-8362-FFD734AA9940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imjeri primjene QFD u gradjevinarstvu se mogu naci na sljedecim adres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nstruction.berkeley.edu/~tommelein/IGLC-7/PDF/Gargion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.uaemex.mx/david.delgado/files/1_QFDInConstructionCM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nstruction.berkeley.edu/~tommelein/IGLC-7/PDF/Gargion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3525-39B3-45AD-B461-2227871CD38C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VISE O FAZAMA 2, 3 I 4 U LITERA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vor: OSNOVE PROIZVODNIH I USLUŽNIH TEHNOLOGIJA, Dr NIKOLA RADAKOVIĆ, vanr. prof., Dr ILIJA ĆOSIĆ, red. pr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Univerzitet u Novom Sadu FAKULTET TEHNIČKIH NAUKA Odsek: Industrijsko inženjerstvo i menadž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Izvor: OSNOVE PROIZVODNIH I USLUŽNIH TEHNOLOGIJA, Dr NIKOLA RADAKOVIĆ, vanr. prof., Dr ILIJA ĆOSIĆ, red. pr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Univerzitet u Novom Sadu FAKULTET TEHNIČKIH NAUKA Odsek: Industrijsko inženjerstvo i menadž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kupan posao u Fazi I podeljen je u 12 koraka, tako da se svaki korak svodi 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punjavanje po jednog polja u "kući kvaliteta". Na slici 5.10 je takođe prikaza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lje se popunjava u kom koraku (pojedina polja su označena krugom i broje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sredini kruga, od 1 do 12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: U redove na levoj strani polja 1 se unose zahtevi kupaca (ŠTA kupc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aju), grupisani po tematskim oblastima, a zatim se u kolon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Značaj” uno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rednosti za prioritete navedene od strane kupaca, od 1-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2: U desni deo tabele sa nazivom “Upoređenje sa konkurencijom” unose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aci u vezi sa situacijom u pogledu konkurencije, sa aspekta kupca;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pcima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avlja pitanje, kako vide naš proizvod u poređenju s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ima važnih konkurenata, u pogledu ispunjavanja njihovih važnih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a; skala vrednovanja im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daciju od 1-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3: U dodatne dve kolone (A i B) unose se dodatne napomene koje potiču iz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pstvene kuće ili iz spoljnih izvora, kao što su podaci o garanciji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tužbam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ebne aktivnosti konkurenata itd.; ove inform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ogućavaju da se shvate ponekad nejasna vrednovanja dobijena od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pa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4: Ovde QFD tim opisuje karakteristike proizvoda koje imaju uticaja 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dovoljenje svakog od zahteva kupaca, unetih u polju 1 u koraku 1; 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ga se z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aljnim rešenjima, već za karakteristikama koje kvalitativ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isuju zahteve kupaca; ovde se “glasovi kupaca” prevode u tehnič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zik proizvođača (KAKO zadovolji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e kupac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5: Za svaku KAKO karakteristiku unose se “Ciljne tehničke vrednosti”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nosno vrednosti pojedinih utvrđenih karakteristika da bi se zadovoljil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i kupaca, pr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čemu se uzima u obzir stanje kod konkuren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6: Ovde se utvrđuje stepen korelacije između svakog ŠTA i svakog KAKO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što se svodi na odgovor na pitanje: “U kojoj meri karakteristika KAK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ržava pojedin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 ŠTA kupca”; vrednovanje ima tri stepena: ja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elacija - 9, srednja - 3 i slaba -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7: Određuje se ukupni značaj pojedinih karakteistika, tako što se ved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čaja koji kupci pridaju određenom ŠTA množi sa stepenom korel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akog KAKO;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a rezultata iz svake KAKO vrste unosi se u kolon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Značaj vrednosti kolone”, najpre sa apsolutnim vrednostima, a zatim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računavaju relativne vrednosti (u %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8: Na osnovu unetih ciljnih vrednosti (korak 5), ispituje se u kom smeru semora menjati neka, na danas proizvedenom proizvodu već postojeć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9: U matrici krova kuće vrši se ispitivanje međusobne korelacije veliči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KO, uz uzimanje u obzir ciljnih vrednosti (korak 5) i smera prome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orak 8) pojedinih karakteristi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0: Ovde se vrši stručno upoređenje sopstvenog proizvoda, u pogled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a, sa proizvodima vodećih konkurenata; skala vrednovanja 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 1-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1: Unose se vrednosti za stepen složenosti (od 1-10), koji u stvaripredstavlja stepen mogućnosti realizacije poboljšanja konstrukcije 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ljnoj vrednos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2: Ovde se, eventualno, dodaju neke važne informacije, koje se nisu mogl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uhvatiti kroz prethodna polja u okviru “kuće kvaliteta”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rovođenjem ovih dvanaest koraka, prostori kuće su u potpunosti ispunjeni, sv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gatstvo znanja i ideja radne grupe prikazano je na razumljiv i pregledan način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viru "kuće kvaliteta". Zajednički rad na projektu omogućava opsežan transfer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nja između različitih područja preduzeća, što pri uobičajenom načinu rada ne b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guće. Ovaj način rada ne poboljšava samo međusobno razumevanje, već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oz stalno popravljanje radne klime oživljava konstruktivnu saradnju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 kraju rad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viru faze I, tim se bavi izborom važnih i kritičnih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, koji imaju odlučujući značaj za realizovanje poboljšanja ili razvi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og proizvod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iterijumi za izbor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visok značaj zahteva kupaca/korisni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visoke šanse u poređenju sa konkurencijom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1-3 karakteristike sa izraženo visokim ukupnim značajem (A-kriterijumi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visoku korelaciju sa najvažnijim zahtevima kupac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pozitivnu korelaciju u odnosu na druge kriterijume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ovu kuć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takav stepen složenosti realizacije da ih je moguć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lizova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omogućavaju prevazilaženje dosadašnjih proble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otrebne investicije su rentabil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ne liste (cheklsits) su formulari za prikupljanje ili proveru podataka. Jedan od najjednostavnijih alata kvaliteta koji imaju dvostruku namenu: učiniti jednostavnim sakupljanje podataka i automatski urediti podatke u formu pogodnu za dalju upotrebu. Mogu se javljati u različitim oblicima a najčešće su u obliku tabela ili liste pit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59D4-2B9C-4AFD-9BCE-C321F40B866D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JOAQUIN DELGADO-HERNANDEZ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ERINE ELIZABETH BAMPTON and ELAINE ASPINWAL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function deployment in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Management and Economics (June 2007) 25, 597–609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.uaemex.mx/david.delgado/files/1_QFDInConstructionCM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fzr.rs/Content/files/0/SIX%20SIGMA%20koncept%20za%20sajt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642C-0895-41DC-BDCD-3E06F3155740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a i posledica  (cause and effect diagram) je razvio tokijski  profesor Kaoru Išikava pedesetih godina i primenjuje se za utvrđivanje veze  između karakteristike entiteta i faktora koji na nju utiču. Koriste se kada na  rezultat nekog procesa utiče više faktora između kojih se mogu uspostaviti  uzročno-posledične veze. Po svom izgledu podseća na riblju kost pa se  često u  literaturi može naći pod tim imenom. Problem, ili neka karakteristika kvaliteta  koja se želi analizirati, je predstavljen "glavom" a potencijalni uzroci i poduzroci  problema predstavljeni su "kostima". Dijagram slikovito prikazuje međusobne  odnose između potencijalnih uzroka nekog problema, ili između komponenti neke  karakteristike kvaliteta. Sličan alat dijagramu riblje kosti je stablo greša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yvor:Milenko Heleta, Dragan Cvetkovic, Osnove inženjerstva i savremene metode u  inženjerstvu, Univerzitet Singidunum, Beograd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rnarupa.singidunum.ac.rs/Elektronska%20biblioteka/I%20godina%202009%20-%2010/FIM/In%C5%BEenjerski%20menad%C5%BEment/Osnove%20in%C5%BEenjerstva%20-%20Prof.%20dr%20Milenko%20Heleta/Osnove%20inzenjerstva%20-%20UDZBENIK.pd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rijante i sinonimi naz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-posledica, dijagram riblja kost, pošto izgledom podseća na skelet 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vrha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istematično istraživanje svih mogućih uzroka koji su mogle dovesti do određenih posledica (efekata problema ili greša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pis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-posledica ili riblja kost jedan je od mnogih alata za menadžment i kvalitet koj je kreirao poznati japanski ekspert Kaoru Ishikawa. Kao i kod svake druge briljantne ideje, osnova riblje kosti je krajnje jednostavna i praktična. Dijagram uzrokposledica se koristi kao timski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rainstorming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at za provokaciju i iznošenje što više ideja mogućih uzroka koje mogu dovesti do posledica koje se istražuju. Nakon nekoliko iteracija analiza, dijagram identifikuje, u grafičkom obliku, primere svih mogućih uzroka pojedinih grešaka. Svi mogući uzroci se slažu na različite nivoe detaljizacije i spajaju se u grane. Nivo detalja raste kako se granjanje nastavlja, tako što je vanjska grana uvek uzrok za unutrašnju granu. To znači da su vanjske grane indikatori korena uzroka pro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snovne karakteristike alata s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asan vizuelni prikaz mogućih uzroka pojave koja je predmet posmatranja i posledice njihovog dejst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bezbeđuje se mogućnost analize međusobnog odnosa pojedinih uticaja - uzroka,njihovog značaja za posmatranu posledicu i mesta u ukupnoj strukturi mogućih uzroka - jedan uzrok se može javiti na više mesta u dijagramu (u više različitih grupa uzorak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eze uzroka i posledice - međusobne veze uzroka su, u opštem slučaju, kvalitativnog i hipotetičkog karaktera i služe kao podloga za efikasnije rešavanje problema nekom drugom, odgovarajućom meto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edosled aktivnosti kod primene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. Definisanje problema - jasno definisati posledice problema ili greš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. Izbor osnovne strukture - nacrtati "riblju kost" koristeći odgovarajuće familije uzroka, npr. ljudi, oprema, metod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. Razrada dijagrama - razmotriti podfamilije uzroka (koristeći metodu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rainstorming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) i zabeležiti ih na dijagra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4. Postupak širenja - grananja - povećavati nivo detaljnosti za svaki od uzroka na osnovnoj struk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5. Analiza dijagrama - analiza svih uzroka, utvrđivanje nivoa njihovog uticaja i predlaganje korektivnih mera i redosleda primene za njihovo otklanjan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A51A-65FF-484A-94B3-7BFDF1B9AED3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UZROCI - POSLEDICA se u literaturi naziva i ISHIKAWA dijagram (p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oru dijagrama) ili dijagram RIBLJA KOST (po asocijaciji na izgled dijagrama)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predstavlja metodu za detaljnu analizu odnosa između određenog sta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matranog sistema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led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i uticajnih veličina koje uzrokuju pojavu datog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ja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zrok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 Metoda je detaljno opisana u knjizi "Metode i tehnike unapređ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 rada" /Vulanović, V., 2003./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da je cilj sprovođenja ove metode racionalizacija procesa rada, pod posledic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eba podrazumevati neki problem ili lošu pojavu koja se uočila. Osnovni cilj met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 u tom slučaju da se identifikuju svi mogući uzroci pojave problema i da se 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zroci na pregledan način struktuiraju, kako bi se dobile podloge za sprovođe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ionalizacije. Metoda se obično sprovodi kroz četiri koraka opisana u nastavk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1: Definisanje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najvećem broju slučajeva dijagram UZROCI - POSLEDICA se koristi za slučaj d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za posledicu definiše određeni problem - loš kvalitet dela, sklopa ili proizvod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java kvara, dugo vreme trajanja ciklusa proizvodnje, nizak koeficijent obrta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pitala ... i niz drugih sličnih problema. U tom slučaju je cilj sprovođenja met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e uzroka pojave problem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guća je, takođe, situacija da se za posledicu definiše i određeni (željeni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ovani) efekat. U datom slučaju se traž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kacija uslova koji v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tvarivanju datog efekta kao posledi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2: Identifikacija uzro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pak identifikacije uzroka koji dovode do napred definisanog problema sastoj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u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likovanju pregleda svih mogućih uzroka problema koji se analizir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čigledno je da dati pregled može biti rezultat rada pojedinca, grupe il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učnog tima, ali se i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oj fazi preporučuju rezultati prethodno održa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instormng sednice. Pri datom je od značaja da pregled uzroka bu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mpletan, odnosno da se unapred ne isključ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 jedan uzrok koji u kasnijoj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alizi može rezultirati osnovnom uzročno-posledičnom vez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lasifikaciji uzroka prema karakteru, načinu dejstva i sličnim obeležjima.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oj fazi se skup svih uzroka razvrstava na osnovne grupe i sva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jedinačni uzrok locir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određenu grupu, pri čemu broj grupa n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graničen, ali postoje preporuke koje se pre svega odnose na pregled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a i efikasnost metode uopšte. Primer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a broja grupa,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učaju razmatranja problema lošeg kvaliteta proizvoda kao posledice, 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stem 4M, gde se svi uzroci iz pregleda uzroka lociraju u jednu od grupa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česnici (Manpower), materijali (Materials), postupci rada (Methods)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edstva rada (Machines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3: Razrada dijagr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se crta tako što se posledica (predstavljena pravougaonikom) postavlj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nom delu crteža, a sa leve strane se postavljaju linije dejstva uzroka u oblik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riblje kosti", tj. postavljanjem osnovne linije i bočnih linija, kako je prikazano na slic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1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4: Anali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da se unošenjem u dijagram iscrpe svi identifikovani uzroci i proveri logič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ake od grana, pristupa se analizi mogućih uzroka pojave problem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ično se vrš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kacija najverovatnijih uzroka (3 - 5 uzroka) i zatim njihov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aljnija analiza. Dijagram UZROCI - POSLEDICA posmatran zasebno n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voljan za rešav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lema - on samo upućuje na njegove osnovne uzroke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zročno - posledične veze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i postupak, pored usmeravanja na osnovne uzroke problema, omogućava,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ređenim slučajevima, iznalaženje linije kritičnih uzroka, što je svakako jedan od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čajnih rezultata predmetne metode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 datih razloga je potrebno prikup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ataka radi provere najznačajnijih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ajverovatnijih) uzroka i rešavanje problema nekom drugom, odgovarajuć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odom (Pareto ili ABC dijagram i sl.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Research and Essays Vol. 6(25), pp. 5442-5456, 30 October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online at http://www.academicjournals.org/S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N 1992-2248 ©2011 Academic Jour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ull Length Research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M4 model using Ishikawa diagram for quality management in design-and-build 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zah Abdul-Rahman1, Chen Wang2,3* and Calvin Jackson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ademicjournals.org/sre/pdf/pdf2011/30Oct/Abdul-Rahman%20et%20a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Izvor:Milenko Heleta, Dragan Cvetkovic, Osnove inženjerstva i savremene metode u  inženjerstvu, Univerzitet Singidunum, Beograd 2009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crnarupa.singidunum.ac.rs/Elektronska%20biblioteka/I%20godina%202009%20-%2010/FIM/In%C5%BEenjerski%20menad%C5%BEment/Osnove%20in%C5%BEenjerstva%20-%20Prof.%20dr%20Milenko%20Heleta/Osnove%20inzenjerstva%20-%20UDZBENIK.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vaka kontrolna karta je grafički predstavljena kao dijagram. Na horizontalnoj osi nanesen je redosled merenja parametara procesa po vremenu, a na vertikalnoj osi daje se skala jedinice mere čije variranje se proučava. Postoji više vrsta kontrolnih ka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vaku kontrolnu kartu karakteriše centralna tendencija i kontrolne granice. Kada se variranje procesa odvija u okviru kontrolnih granica - što se potvrđuje položajem tačke unutar tih granica za svaki pojedinčni uzorak koji se proverava - onda se za proces kaže da je stabilan ili da je pod kontrolom. U suprotnom, proces nije stabilan, pa i kad vrednost za samo jednu među desetinama uzoraka pada izvan kontrolnih granica. Primer grafičkog dijagrama jedne kontrolne karte, koji pokazuje broj proizvedenih proizvoda tokom svakog dana u smeni, data je na slici 10.4.5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*Izvor: https://ef.unibl.org/literatura/973845Vjezbe_-_Kontrolne_karte_-_1_dio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e osnovne mogućnosti ovog alata su sljedeć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ljanje kvalitetom procesa rad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bazi prostorne i vremenske slike stanja, promjena i tendencija kvaliteta sadržanih na kontrolnoj karti,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cilju sprečavanja proizvodnje neusklađenih proizvod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 kvaliteta proizvoda u pojedinim fazama proizvodnje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azi pripreme i fazi završetk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iacija proces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otkrivanja nedopuštenih faktora i njihovog isključivanja iz toka proce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a tačnosti i stabilnosti procesa rad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vršavanje tehnoloških proces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sa stanovišta kvalite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šak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rade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toku odvijanja tehnoloških proce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na u svim fazama nekog procesa (ulazna, procesna, izlazna kontrola i kontrola u eksploataciji) i svim tipovima proizvodnje (maloserijskoj, srednjeserijskoj i masovnoj proizvodnji, izuzev pojedinačn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ntrolne kar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ntrol char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su osnovni alat koji se koristi za statističk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ravljanje procesom. Kontrolne karte su grafici u kojima se prikazuje ponaš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vremenu i služe za ocenjivanje da li se proces odvija na zadovoljavajuć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čin. Grafici su ograničeni sa statistički izračunatim kontrolnim granicam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među kojih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vija proces. Granice služe da najave pojavu problema, odnos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stematskih smetnji. Najviše korišćene kontrolne karte su bazirane na 3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trolnim granicama. Tipov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trolnih karata određeni su tipom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je se ispituju, odnosno prirodom podataka koje predstavljaju. Osnovna podel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 na kontrolne karte za kontinulnepromenljive i kontrolne karte za atributiv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e. Glavne oblasti primene kontrolnih karata su: kontrolis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spekcija) procesa, podešav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, analiza procesa i uprav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om*. O primeni kontrolnih karti postoji obimna literatura a razvijeni su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verski pake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76C-C0D7-4525-8E82-854DE533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42F-8EED-4296-902A-1734D612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EAE-4939-4811-B165-D7F3EA2E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B50-9517-401D-AD23-0E97F635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7772-341A-4C73-A819-D26749AA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D1F3-6E23-4FF9-86FA-510B7204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FBBF-EDF1-42E5-9176-3924EC4A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1905-AA33-4A80-9909-A4D30328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22EC-BDC8-4B26-905A-5396CC4A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62E1-FDFD-4014-8F3D-A2986DD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E8D2-5803-485C-8CC4-EA9588F0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6A9-EF8E-4862-A9DB-AD5696E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72A6-08BC-4FBD-B33C-005CA38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6395-946D-4C2C-B8D4-C08D7A23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0D9B-EBFC-45F7-9B56-2856C9C3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6149-8CE6-4A4B-86F3-D1ADD1BB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CC6C-D778-4795-B2B7-BB0F743F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EB9-1407-4D22-B776-FDE4FECA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C73-74A8-43B9-8F8B-43E3648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1B4-AA80-48CC-83BB-65C07609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38A-969E-48CE-A226-828501FB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14B-6FE3-4E2A-BDF3-0E14F503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124-9FFA-4F2A-8911-887FB40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63D-69B3-46CD-9698-15E1F9C6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BEA9-B1EC-4494-B9AE-663CB37A75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3A8E-9D3B-4971-A335-40A57A6959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ffff"/>
                </a:solidFill>
                <a:latin typeface="Times New Roman"/>
              </a:rPr>
              <a:t>Alati i metode za upravljanje kvalitetom</a:t>
            </a:r>
            <a:endParaRPr b="0" lang="en-US" sz="3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471400" y="4394160"/>
            <a:ext cx="568476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2" name="Content Placeholder 2" descr=""/>
          <p:cNvPicPr/>
          <p:nvPr/>
        </p:nvPicPr>
        <p:blipFill>
          <a:blip r:embed="rId1"/>
          <a:stretch/>
        </p:blipFill>
        <p:spPr>
          <a:xfrm>
            <a:off x="923760" y="1628640"/>
            <a:ext cx="7772400" cy="34671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1187280" y="5516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ffffff"/>
                </a:solidFill>
                <a:latin typeface="Arial"/>
              </a:rPr>
              <a:t>Izvor: https://ef.unibl.org/literatura/973845Vjezbe_-_Kontrolne_karte_-_1_dio.p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4" name="Straight Arrow Connector 5"/>
          <p:cNvCxnSpPr/>
          <p:nvPr/>
        </p:nvCxnSpPr>
        <p:spPr>
          <a:xfrm flipH="1">
            <a:off x="6227280" y="1413000"/>
            <a:ext cx="937440" cy="1729440"/>
          </a:xfrm>
          <a:prstGeom prst="straightConnector1">
            <a:avLst/>
          </a:prstGeom>
          <a:ln w="54000">
            <a:solidFill>
              <a:srgbClr val="00cccc"/>
            </a:solidFill>
            <a:miter/>
            <a:tailEnd len="med" type="arrow" w="med"/>
          </a:ln>
        </p:spPr>
      </p:cxnSp>
      <p:sp>
        <p:nvSpPr>
          <p:cNvPr id="175" name="TextBox 9"/>
          <p:cNvSpPr/>
          <p:nvPr/>
        </p:nvSpPr>
        <p:spPr>
          <a:xfrm>
            <a:off x="5668920" y="112536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ffff"/>
                </a:solidFill>
                <a:latin typeface="Times New Roman"/>
              </a:rPr>
              <a:t>Zona neizbjezne disperz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1208160"/>
            <a:ext cx="80424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pis tehnik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istorijskih podataka i statistike su određene kontrolne granice (granice rasipanja, najčešće na osnovu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) i centralna tendencij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onja kontrolna granica DKG (lower control limit LCL)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gornja kontrolna granica GKG (upper control limit UCL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centralna tendencija (aritmetička sredin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500" spc="-1" strike="noStrike" u="sng">
                <a:solidFill>
                  <a:srgbClr val="ffffff"/>
                </a:solidFill>
                <a:uFillTx/>
                <a:latin typeface="Times New Roman"/>
              </a:rPr>
              <a:t>Kontrolne granice su statističke granice i nisu povezane s</a:t>
            </a:r>
            <a:r>
              <a:rPr b="0" i="1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hr-HR" sz="1500" spc="-1" strike="noStrike" u="sng">
                <a:solidFill>
                  <a:srgbClr val="ffffff"/>
                </a:solidFill>
                <a:uFillTx/>
                <a:latin typeface="Times New Roman"/>
              </a:rPr>
              <a:t>granicama specifikacije (zahtjeva).</a:t>
            </a:r>
            <a:r>
              <a:rPr b="0" i="1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 Unutar kontrolnih granica se ocekuju (uobicajene) slucajne varij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ima se više manjih uzoraka tokom vremen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uzorka sračunava se jedan ili više statističkih parameta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praćenja procesa crta se dijagram: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horizontalnoj osi nanesen je redosljed mjerenja parametara procesa po vremen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vertikalnoj osi daje se skala jedinice mjere parametara čije variranje se proučava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da se variranje procesa odvija u okviru kontrolnih granica - što se potvrđuje položajem tačke unutar tih granica za svaki pojedinčni uzorak koji se provjerava - onda se za proces kaže da je stabilan ili da je pod kontrol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djela prema sadržaju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trolne karte za mjerne (numeričke) karakteristike (svojstva) kvaliteta- matematićka podloga ovih karata je normalna (Gausova) raspodje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trolne karte za atributna svojstva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atematićka podloga ovih karata j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inomna I Puasonova raspodje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Kontrolne karte za numeričke karakteristike kvalitet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194616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-R kontrolne kart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te aritmetičku sredinu 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X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kao mjeru centriranosti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t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i  R raspon u uzorcima, kao mjeru rasipanja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orak veličine 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25, uobicajeno 2 do 10 jedinica u uzork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roj serija uzoraka tokom vremena k≥20  (broj posmatranj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imjena najčešće za serijsku i velikoserijsku komadnu proizvodnj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-s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rt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te aritmetičku sredinu 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X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o mjeru centriranosti proces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te 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</a:rPr>
              <a:t>σ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standardno odstupanje kao mjeru rasipanja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orak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o\e biti promjenljive velicine n≠cons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roj serija uzoraka tokom vremena k≥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 procesima koji su zaokruženog tipa i koji se odvijaju u ciklu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m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da se proces ne može pratiti dok je ciklus u toku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kontrolne kart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odre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đ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im vremenskim intervalima mjeri se karakteristika proi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d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osnovu aritmetičke sredine svih mjerenja crta se centralna lin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ja i gornja granica se sracunavaju kao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ježe se sve izmjerene vrijednosti po redosledu nastaja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880320" y="2832120"/>
            <a:ext cx="224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900" spc="-1" strike="noStrike">
                <a:solidFill>
                  <a:srgbClr val="ffffff"/>
                </a:solidFill>
                <a:latin typeface="Arial"/>
              </a:rPr>
              <a:t>Izvor: http://cent.mas.bg.ac.rs/nastava/statut99/ukp/predavanja/predavanja07.pd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Content Placeholder 5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3105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̅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-R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1280" y="1014120"/>
            <a:ext cx="825984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 podaci 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granice za ovu kartu moguće je postaviti na tri načina </a:t>
            </a:r>
            <a:r>
              <a:rPr b="0" lang="en-US" sz="1500" spc="-1" strike="noStrike">
                <a:solidFill>
                  <a:srgbClr val="ff0000"/>
                </a:solidFill>
                <a:latin typeface="Times New Roman"/>
              </a:rPr>
              <a:t>(Nije potrebno pamtiti formul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:*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aćenjem nepoznatog procesa u cilju ustanovljavanja njegovih prirodnih mogućnosti u pogledu centriranosti i rasipanj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poznatih prošlih podataka o proces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unaprijed zadanih toleran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0" t="0" r="6242" b="1357"/>
          <a:stretch/>
        </p:blipFill>
        <p:spPr>
          <a:xfrm>
            <a:off x="476280" y="3981600"/>
            <a:ext cx="4124160" cy="776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2204" b="18704"/>
          <a:stretch/>
        </p:blipFill>
        <p:spPr>
          <a:xfrm>
            <a:off x="604800" y="5008680"/>
            <a:ext cx="3995640" cy="744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639720" y="6119640"/>
            <a:ext cx="3994200" cy="66528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9"/>
          <p:cNvGrpSpPr/>
          <p:nvPr/>
        </p:nvGrpSpPr>
        <p:grpSpPr>
          <a:xfrm>
            <a:off x="1590840" y="1401840"/>
            <a:ext cx="5717880" cy="1952640"/>
            <a:chOff x="1590840" y="1401840"/>
            <a:chExt cx="5717880" cy="1952640"/>
          </a:xfrm>
        </p:grpSpPr>
        <p:pic>
          <p:nvPicPr>
            <p:cNvPr id="188" name="Picture 6" descr=""/>
            <p:cNvPicPr/>
            <p:nvPr/>
          </p:nvPicPr>
          <p:blipFill>
            <a:blip r:embed="rId4"/>
            <a:srcRect l="0" t="0" r="-11762" b="0"/>
            <a:stretch/>
          </p:blipFill>
          <p:spPr>
            <a:xfrm>
              <a:off x="1590840" y="1401840"/>
              <a:ext cx="458784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7" descr=""/>
            <p:cNvPicPr/>
            <p:nvPr/>
          </p:nvPicPr>
          <p:blipFill>
            <a:blip r:embed="rId5"/>
            <a:stretch/>
          </p:blipFill>
          <p:spPr>
            <a:xfrm>
              <a:off x="6300720" y="1906200"/>
              <a:ext cx="998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8" descr=""/>
            <p:cNvPicPr/>
            <p:nvPr/>
          </p:nvPicPr>
          <p:blipFill>
            <a:blip r:embed="rId6"/>
            <a:stretch/>
          </p:blipFill>
          <p:spPr>
            <a:xfrm>
              <a:off x="6300720" y="2457720"/>
              <a:ext cx="100800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7"/>
          <a:stretch/>
        </p:blipFill>
        <p:spPr>
          <a:xfrm>
            <a:off x="5114880" y="4103640"/>
            <a:ext cx="3894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mjer ̅X-R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4" name="Content Placeholder 1" descr=""/>
          <p:cNvPicPr/>
          <p:nvPr/>
        </p:nvPicPr>
        <p:blipFill>
          <a:blip r:embed="rId1"/>
          <a:stretch/>
        </p:blipFill>
        <p:spPr>
          <a:xfrm>
            <a:off x="611280" y="1143000"/>
            <a:ext cx="4911480" cy="2925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3348000" y="4316400"/>
            <a:ext cx="4863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̅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-</a:t>
            </a:r>
            <a:r>
              <a:rPr b="0" lang="el-GR" sz="2800" spc="-1" strike="noStrike">
                <a:solidFill>
                  <a:srgbClr val="00ffff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1280" y="1014120"/>
            <a:ext cx="825984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 podaci 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granice za ovu kartu moguće je postaviti na tri načina </a:t>
            </a:r>
            <a:r>
              <a:rPr b="0" lang="en-US" sz="1500" spc="-1" strike="noStrike">
                <a:solidFill>
                  <a:srgbClr val="ff0000"/>
                </a:solidFill>
                <a:latin typeface="Times New Roman"/>
              </a:rPr>
              <a:t>(Nije potrebno pamtiti formul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:*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aćenjem nepoznatog procesa u cilju ustanovljavanja njegovih prirodnih mogućnosti u pogledu centriranosti i rasipanj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poznatih prošlih podataka o proces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unaprijed zadanih toleran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1590840" y="1401840"/>
            <a:ext cx="5717880" cy="1952640"/>
            <a:chOff x="1590840" y="1401840"/>
            <a:chExt cx="5717880" cy="1952640"/>
          </a:xfrm>
        </p:grpSpPr>
        <p:pic>
          <p:nvPicPr>
            <p:cNvPr id="200" name="Picture 6" descr=""/>
            <p:cNvPicPr/>
            <p:nvPr/>
          </p:nvPicPr>
          <p:blipFill>
            <a:blip r:embed="rId1"/>
            <a:srcRect l="0" t="0" r="-11762" b="0"/>
            <a:stretch/>
          </p:blipFill>
          <p:spPr>
            <a:xfrm>
              <a:off x="1590840" y="1401840"/>
              <a:ext cx="458784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7" descr=""/>
            <p:cNvPicPr/>
            <p:nvPr/>
          </p:nvPicPr>
          <p:blipFill>
            <a:blip r:embed="rId2"/>
            <a:stretch/>
          </p:blipFill>
          <p:spPr>
            <a:xfrm>
              <a:off x="6300720" y="1906200"/>
              <a:ext cx="998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8" descr=""/>
            <p:cNvPicPr/>
            <p:nvPr/>
          </p:nvPicPr>
          <p:blipFill>
            <a:blip r:embed="rId3"/>
            <a:stretch/>
          </p:blipFill>
          <p:spPr>
            <a:xfrm>
              <a:off x="6300720" y="2457720"/>
              <a:ext cx="100800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4"/>
          <a:stretch/>
        </p:blipFill>
        <p:spPr>
          <a:xfrm>
            <a:off x="5421240" y="3971880"/>
            <a:ext cx="3687840" cy="2820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5"/>
          <a:stretch/>
        </p:blipFill>
        <p:spPr>
          <a:xfrm>
            <a:off x="1509840" y="4086360"/>
            <a:ext cx="3662280" cy="614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6"/>
          <a:stretch/>
        </p:blipFill>
        <p:spPr>
          <a:xfrm>
            <a:off x="1379520" y="5111640"/>
            <a:ext cx="3917880" cy="641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7"/>
          <a:stretch/>
        </p:blipFill>
        <p:spPr>
          <a:xfrm>
            <a:off x="1297080" y="6108840"/>
            <a:ext cx="398916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mjer ̅X-</a:t>
            </a:r>
            <a:r>
              <a:rPr b="0" lang="el-GR" sz="2800" spc="-1" strike="noStrike">
                <a:solidFill>
                  <a:srgbClr val="00ffff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Content Placeholder 3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Kontrolne karte za praćenje atributivnih karakteristik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imes New Roman"/>
              </a:rPr>
              <a:t>bazirane su na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brojanju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neisprav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u uzorku (ukupan broj defekt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np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 ili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procenat defekt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) 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nedostataka - defekata u uzorku (ukupan broj defekat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 ili procenat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defekata po prim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rku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rcRect l="0" t="0" r="0" b="5005"/>
          <a:stretch/>
        </p:blipFill>
        <p:spPr>
          <a:xfrm>
            <a:off x="539640" y="3284640"/>
            <a:ext cx="7945560" cy="2736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132160" y="1946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Analiza kontrolnih kara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6" name="Content Placeholder 3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06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Pareto dijagram (ABC analiza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 grafička metoda za rangiranje činilaca- Ime proističe iz jasnog isticanja zona A, B i C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areto dijagram sa vertikalnim stupcima koji prikazuje kategorije u opadajućem redoslijedu po frekvenciji ili veličini s lijeva na desn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 (ABC dijagram) 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jčešće korišćeni statistički alat za analizu problema. On grafički sumira podatke u cilju fokusiranja pažnje na glavne razloge pojave određenog rezultata i utvrđivanje odnosa  zmeđu uzroka i posledice (histogram po opadajućem redosledu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 sa kumulativnom krivom - k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mulativna distribuciona linija ("cum" linija) je dodatna dimenzija Pareto analize. "Cum" linija pokazuje kumulativnu distribuciju događaja u procentima (ukupan procenat događaja je 100%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mjen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ngiranje pojava i stepena značaj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tvrđivanje kritičnih faktora prema ponderima kritič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ngiranje mogućih poboljša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ože se koristiti pravilo 70-30 ili 80-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stupak izrad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abir činilaca koji će se analizira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abir jedinice mjerenje za analizu (br. pojavljivanja, troškovi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ređati kategorije s lijeva na desno po opadajućem redosljedu (najprije nanijeti kategoriju (činilac sa najvećom frekvencijom, pa onda manii itd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struisati liniju kumulativne učestal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anje</a:t>
            </a: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 metoda i  alata za upravljanje kvalitetom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71280" y="1557360"/>
            <a:ext cx="797076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Alati i metod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u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ktične tehnike, vještine, sredstva ili mehanizmi koje je moguće primijeniti za rješavanje specifičnih zada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taka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 i problema vezanih z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QM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glavnom se koriste za unapr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đenje procesa (kreiranje, upravljanje, analiza podataka za rešavanje probl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Specifičnost namjene alata i metoda za poboljšanje kvalite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stvaranje ideja (Brainstorming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analizu procesa (Dijagram to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analizu uzroka (Isikava dijagram=dijagram uzrok-posljedic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planiranje (QFD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ocjenu (Benchmarking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prikupljanje i analizu podataka (metode SPC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etode = šema, redosljed, postupak za obavljanje neke djelatnosti (u ovom slucaju za sistemsko i sistematičnu obradu podata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često podrazumijevaju primjenu više ala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eduslovi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spješne primjene metoda i alata za upravljanje kvalitetom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tpun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predijeljenost i po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a od strane menad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en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Efikasna i pripremljena eduka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stinska potreba za korišćenjem nekog alata ili metod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efinisani ciljevi upotreb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kolina spremna na saradnj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Pareto dijagram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dvajaju se 3 oblasti: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A – grupa veoma uticajnih svojstava i karakteristika (obuhvata 70-80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B – grupa uticajnih svojstava i karakteristika (obuhvata 90-95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C – grupa manje uticajnih svojstava i karakteristika (obuhvata preostali dio kumulativnog iznosa, a to je 5-10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>
            <a:off x="2835360" y="472428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299880" y="4724280"/>
            <a:ext cx="2333880" cy="21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5454720" y="4724280"/>
            <a:ext cx="359712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Bar dijagrami i histogram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Bar dijagram</a:t>
            </a: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 -predstavlja sumarno podatke na jednostavan i razumljiv način u obliku grafičkih kolon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Histogram - </a:t>
            </a: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edstavlja vertikalni bar grafik koji prikazuje distribuciju podataka u obliku frekvencija pojavljivanja za specifične vrijednosti podata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ostupak izrade hist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ikupljanje podataka i informacija (varijabilni i atributivn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Slaganje podataka u tablicu i njihovo brojan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oračun raspona (R) za cijeli uzor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oračun broja razreda (k), i širine razreda (H)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rada tablice frekvenci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račun aritmetičke sred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Crtanje samog hist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900000" y="3857760"/>
            <a:ext cx="3184560" cy="294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2"/>
          <a:stretch/>
        </p:blipFill>
        <p:spPr>
          <a:xfrm>
            <a:off x="5364000" y="3836880"/>
            <a:ext cx="324036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ffff"/>
                </a:solidFill>
                <a:latin typeface="Times New Roman"/>
              </a:rPr>
              <a:t>Dijagram rasipan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19700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Dijagram rasipanja – 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grafički  metod za proučavanje odnosa između dva povezana skupa podat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Crtanjem dijagrama rasipanja dobijamo informacije o postojanju veza kao i o njihovom smjeru, obliku i jačini među zavisnim varijabl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 oblasti kvaliteta provjerava se postojanje relacije izmeđ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arakteristike kvaliteta i faktora koji utiču na n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vije povezane karakteristike kvaliteta i/i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va faktora koja utiču na istu karakteristiku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struiše na osnovu prikupljenog skupa parova podat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apscisi se nanose vrijednosti nezavisno promjenljive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ordinati se nanose vrijednosti zavisno promjenljive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osnovu oblaka prikazanih tačaka vizuelno se može uočiti oblik aproksimativne lin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relaciona analiza služi za utvrđivanje jačine veze posmatranih promjenljivih preko proračuna Pirsonovog koeficijenta (može imati vrijednost od -1 do +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egresiona analiza – za pronalaženje matematičkog oblika povezanosti između jedne zavisne i jedne ili više nezavisnih promjenljiv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2587680" y="5326200"/>
          <a:ext cx="2050920" cy="14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5326200"/>
                    <a:ext cx="20509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7020000" y="5295960"/>
          <a:ext cx="2124000" cy="154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5295960"/>
                    <a:ext cx="21240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8"/>
          <p:cNvGraphicFramePr/>
          <p:nvPr/>
        </p:nvGraphicFramePr>
        <p:xfrm>
          <a:off x="247680" y="5346720"/>
          <a:ext cx="2266920" cy="1487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680" y="5346720"/>
                    <a:ext cx="22669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0"/>
          <p:cNvGraphicFramePr/>
          <p:nvPr/>
        </p:nvGraphicFramePr>
        <p:xfrm>
          <a:off x="4711680" y="5322960"/>
          <a:ext cx="2308320" cy="152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1680" y="5322960"/>
                    <a:ext cx="2308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DIJAGRAM T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Svrha -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Vizuelizacija procesa na grafički način, koja omogućuje identifikaciju slabosti i konflikata u proce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drazumijeva logično raščlanjivanje problema ili aktivnosti na pojedinačne korake gdje su vidljivi početak, tok i kraj proces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ostupak primje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efinisanje procesa koji želimo prikazati, odrediti granice procesa tj. gdje on počinje i završa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Raščlanjivanje procesa na aktivnosti. Za svaku aktivnost identifikovati ulaze, izlaze, djelatnosti, načine međusobnog povezivanja i utvrditi odgovornos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diti oznake za proste aktivnosti, aktivnosti preispitivanja i aktivnosti verifikacije i odobrav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efinisati nosioce svake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Odrediti redoslijed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vezati aktivnosti sa nosiocima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vezati različite elemente dijagr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042920" y="1773360"/>
          <a:ext cx="7704360" cy="4591080"/>
        </p:xfrm>
        <a:graphic>
          <a:graphicData uri="http://schemas.openxmlformats.org/drawingml/2006/table">
            <a:tbl>
              <a:tblPr/>
              <a:tblGrid>
                <a:gridCol w="1584360"/>
                <a:gridCol w="61200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načenje simb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edinačni koraci (zadaci, aktivnost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ispitivan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luka (da-ne, može- ne mož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ak i kraj proc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kumentac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elica pokazuje smjer ili tijek proc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11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Object 8"/>
          <p:cNvGraphicFramePr/>
          <p:nvPr/>
        </p:nvGraphicFramePr>
        <p:xfrm>
          <a:off x="1403280" y="2565360"/>
          <a:ext cx="85896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8589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4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1476360" y="3933720"/>
          <a:ext cx="79200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933720"/>
                    <a:ext cx="7920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7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1403280" y="4653000"/>
          <a:ext cx="7923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4653000"/>
                    <a:ext cx="7923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20"/>
          <p:cNvSpPr/>
          <p:nvPr/>
        </p:nvSpPr>
        <p:spPr>
          <a:xfrm>
            <a:off x="2843280" y="1150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474920" y="5229360"/>
          <a:ext cx="726840" cy="42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4920" y="5229360"/>
                    <a:ext cx="7268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23"/>
          <p:cNvSpPr/>
          <p:nvPr/>
        </p:nvSpPr>
        <p:spPr>
          <a:xfrm>
            <a:off x="3780000" y="790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1258920" y="5950080"/>
          <a:ext cx="115236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5950080"/>
                    <a:ext cx="115236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ff"/>
                </a:solidFill>
                <a:latin typeface="Times New Roman"/>
              </a:rPr>
              <a:t>Osnovni simboli za izradu dijagrama tok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AutoShape 70"/>
          <p:cNvSpPr/>
          <p:nvPr/>
        </p:nvSpPr>
        <p:spPr>
          <a:xfrm>
            <a:off x="1403280" y="3284640"/>
            <a:ext cx="865080" cy="43164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dijagrama t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2974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etode pobolj</a:t>
            </a: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š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vanja kvalite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tod – ustaljen na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 obavljanja nekog pos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jznačajnije metode za poboljšavanje kvalitet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PC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MEA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enčmar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QFD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6 Sigma (Six Sigm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851280" y="2808360"/>
            <a:ext cx="4753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tatističk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ontrol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proce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(SPC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804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tatistič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ntrol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proc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SPC) –koristi se za mjerenje promjenljivih u procesu i za utvrđivanje mogućnosti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esa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a ostvaruje rezultate (proizvode) određenih performan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PC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ode kontrole su skup metoda i tehnika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rikupljanja podataka (putem kontrolnih lista- obrazaca za prikupljanje podata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Organizovanja i prezentacije podataka (putem bar dijagrama i histogra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Analize i tumačenja podataka (korišćenjem kontrolnih karata, testiranjem hipoteza, korelacionom i regresionom analizom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PC stvara preduslove z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relazak sa inspekcije na prevenciju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istematsko unapređenje nivoa kvaliteta proizvo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laniranje proizvodnje sa nultom gresk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Times New Roman"/>
              </a:rPr>
              <a:t>FMEA  (Failure Mode and Effect Analyzis)- Analiza pojave i uticaja otkaza (analiza rizika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804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MEA je tehnika koja daje odgovor na pitanje: Šta može da otkaže; Kako otkazuje;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kolik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čest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ć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da otkazu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e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Koji su efekti otk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; Koje su posl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di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otkazivanja po pouzda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o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/ sigurnosti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imjena z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ojektovanje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Izradu programa unapređenja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laniranje sistema održav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Koristi od FME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eventivno planir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Identifikovanje zahtjeva za izmjen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Smanjenjenje troško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ovećanje efikas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Smanjenje cijene troškova naknadnog održav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Umanjivanje ukupnih aktivnosti koje ne doprinose dodavanju vrijednosti proce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Times New Roman"/>
              </a:rPr>
              <a:t>FMEA  (Failure Mode and Effect Analyzis)- Analiza pojave i uticaja otkaza (analiza rizika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804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oraci primjene za slučaj razvoja novog projekt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Analiza projekta: utvrđivanje mogućih grešaka, identifikacija posljedica eventualnih grešaka, identifikovanje uzroka grešaka, analiza sistema kontrole sa aspekta mogućnosti blagovremenog sprečavanja pojave grešaka, utvrđivanje vjerovatnoće nastanka greške za svaki uzrok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Ocjena postojećeg stanja:kroz proračun (bodovnu ocjenu od 1-9) koeficijenata rizika i koeficijent prioriteta rizika (KPR=R1*R2*R3)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1 -Faktor rizika pojave greške- vjerovatnoće nastanka neusaglaše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2- Faktor rizika posljedice greške – značajnost ili težina grešk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3- Faktor rizika neotkrivanja greške – mogućnost otkrivanja neusaglaše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PR- Koeficijent prioriteta rizika – stepen rizičnosti projektnog rješe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ontrola FMEA  sa aspekta tačnosti i sa aspekta ocjene projekta (KPR mora biti manje od kritičnih vrijednosti koje su određene u rasponu od 1-10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Planiranje i sprovođenje korektivnih mjera na projektu (eliminisanje mogućih uzroka greške, ublažavanje mogućih posljedica i/ili povećanje vjerovatnoće blagovremenog otkrivanja greša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Ocjena rezultata korektivnih mjera i ocjena uticaja na smanjenje koeficijenta prioriteta rizika KP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f"/>
                </a:solidFill>
                <a:latin typeface="Times New Roman"/>
              </a:rPr>
              <a:t>Sistematizacija alata za upravljanje kvalitetom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0000" y="194580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ontrolne liste 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klists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)- obrasci za prikupljanje ili provjeru podataka  u formi tabela ili liste pitanj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uzrok/posljedica- Ishikawa diagram-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služi za  detaljnu analizu odnosa između stanja sisema i uticajnih faktora (uzročnika) na to sta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Kontrolne karte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–grafici u kojima se prikazuje ponašanje procesa u vremenu i služe za ocenjivanje da li se proces odvija na zadovoljavajući nač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areto (ABC) dijagrami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Histogra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rasip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ka procesa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vizuelno prikazivanje odvijanja procesnih koraka, sa definisanim nosiocima aktivnosti, izlaznim dokumentima i mjestima preispitivanja i odlu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70" name="Content Placeholder 3" descr=""/>
          <p:cNvPicPr/>
          <p:nvPr/>
        </p:nvPicPr>
        <p:blipFill>
          <a:blip r:embed="rId1"/>
          <a:stretch/>
        </p:blipFill>
        <p:spPr>
          <a:xfrm>
            <a:off x="2260440" y="1946160"/>
            <a:ext cx="559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383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ffff"/>
                </a:solidFill>
                <a:latin typeface="Arial"/>
                <a:ea typeface="Arial"/>
              </a:rPr>
              <a:t>Benčmarking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55280" y="1052640"/>
            <a:ext cx="818676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enčmarking predstavlja sistematski i kontinuirani proces m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ren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uporedjivanja poslovnih procesa jedne organizacije u odnosu na poslovne procese lidera radi dobijan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cija koje će pomoći organizaciji da preduzm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kciju za poboljšanje svojih performansi.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merič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cent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za produktivnost i kvalite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QC)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Benchmarking predstavlja kontinuiranu aktivnost poređenja procesa, proizvoda ili usluga sa sličnom aktivnošću poznatu kao najbolju u tom polju, sa svrhom uspostavljanja ambicioznih ali realnih ciljeva unapređenja i akcij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enčmarking predstavlja kontinuirani proces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edjenja proizvoda, usluga i procesa u odnosu 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jjače konkuren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Osnovni tipovi benčmarkinga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Interni – porede se delovi u okviru jednog preduzeć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Konkurentski-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ompetitivn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, eksterni) – preduzeće se poredi sa konkurentima u funkciji dobijanja slike o poslovanju drugih (direktni konkurenti ili e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valentne organizacije koje rade u drugim zemljama i opslužuju druga tržiš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Funkcionalni – preduzeće poredi neku od svojih funkcija sa funkcijama nekonkurentskog preduzeć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Generički – poređenje na nivou različitih industrij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356000" y="5732640"/>
            <a:ext cx="259236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8320" y="1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ffff"/>
                </a:solidFill>
                <a:latin typeface="Arial"/>
                <a:ea typeface="Arial"/>
              </a:rPr>
              <a:t>Benčmarking - postupak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9280" y="1292400"/>
            <a:ext cx="575784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značajnoj mjeri podudara sa PDCA ciklusom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iranje se sastoji od koraka: odrediti što se prikazuje referentnim vrijednostima, defi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ti ključne pokazatelje djelatnosti, defi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ti partnera za benchmarking, utvrditi metodu prikupljanja podata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 .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 Najznačajnija pitanja na koja treba odgovoriti u ovoj fazi su: koji se proizvodi porede, koji procesi se porede, koje funkcije se porede, kakav će biti način prikupljanja i obrade informacija, kako odabrati druge organizacije za poređenje.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Izvođenje;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podrazumijeva organizovanje benčmarkinga – terensko prikupljanje podataka, posjetu drugim organizacijama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iz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obuhvat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sistematizaciju saznanja i njjihovu primjenu u obliku određenih uputstava koja će se primenjivati, kao i njihovo mjerenje i usaglašavanaje., odnosno obuhvat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epoznavanje slabih 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čaka u radu i predviđanje budućeg djelovanja;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aopštava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zult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, odobre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st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lja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unkcional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i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ilje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i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provođe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plano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 Glavno pitanje na koje treba dati odgovor u ovoj fazi je: šta smo naučili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kcij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provođenje i nadgleda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poboljšanja, mjer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e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ezultate prema željama i potrebama i provjeriti referentne vrijednosti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37120" y="1946160"/>
            <a:ext cx="300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8"/>
          <p:cNvGrpSpPr/>
          <p:nvPr/>
        </p:nvGrpSpPr>
        <p:grpSpPr>
          <a:xfrm>
            <a:off x="6054840" y="646200"/>
            <a:ext cx="3089160" cy="6037200"/>
            <a:chOff x="6054840" y="646200"/>
            <a:chExt cx="3089160" cy="6037200"/>
          </a:xfrm>
        </p:grpSpPr>
        <p:pic>
          <p:nvPicPr>
            <p:cNvPr id="278" name="Picture 9" descr=""/>
            <p:cNvPicPr/>
            <p:nvPr/>
          </p:nvPicPr>
          <p:blipFill>
            <a:blip r:embed="rId1"/>
            <a:stretch/>
          </p:blipFill>
          <p:spPr>
            <a:xfrm>
              <a:off x="6054840" y="646200"/>
              <a:ext cx="308916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0" descr=""/>
            <p:cNvPicPr/>
            <p:nvPr/>
          </p:nvPicPr>
          <p:blipFill>
            <a:blip r:embed="rId2"/>
            <a:stretch/>
          </p:blipFill>
          <p:spPr>
            <a:xfrm>
              <a:off x="6066720" y="3382920"/>
              <a:ext cx="3006000" cy="330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Razvijanje funkcije kvaliteta (QFD) – “Kuće kvaliteta”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899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zvijena u Kobeu (Japan) 70-tih godina, u brodogradilištu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tsubishi, ali je ubrzo našla pri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u i u drugim granama industrije. Toyota j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risti još od 1973. godine, a kasnije je prihvata i Honda (1979.), Ford (1983.),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vo i Saab (1987.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Širu pri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u u razvijenim zemljama zapadne Evrope i US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toda dostiže 1991. god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vrha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voj ili redizajn proizvoda zasnovan na zaht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ma kupa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ezb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je procesno fokusiranje na kupce i njihove zaht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e u svim faz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etvaranje </a:t>
            </a:r>
            <a:r>
              <a:rPr b="1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zahtjeva kupaca </a:t>
            </a:r>
            <a:r>
              <a:rPr b="0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u karakteristike proizvoda (prv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karakteristika proizvoda /usluge u karakteristike komponenti (drug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karakteristika komponenti u tehnologiju izrade -karakteristike procesa (treć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procesa u </a:t>
            </a: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radna uputstva 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(četvrt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moviše višefunkcionalni timski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d i konkurentni inženjering u kompaniji. Skraćenje vremena razvoja proizvod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is 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stem planiranja kroz proces razvoja proizvoda, od inicijalnog planiranja proizvoda, kroz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taljan plan razvoja proizvoda, proces planiranja i finalno planiranje proizvodnj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. Sastoji se od listi na kojima se definiše “šta” i druge liste na kojoj se definiše “kak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Ograničenja primj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Veliki broj zahtje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zličite grupe kupa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33240" y="2903400"/>
            <a:ext cx="166860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 rot="5400000">
            <a:off x="206640" y="2707560"/>
            <a:ext cx="459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 rot="16200000">
            <a:off x="-729000" y="4045320"/>
            <a:ext cx="2652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Zahtjevi kup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633240" y="2371680"/>
            <a:ext cx="166860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Inžinjersk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karakteristik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663480" y="1690560"/>
            <a:ext cx="16178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2935440" y="2903400"/>
            <a:ext cx="167148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511720" y="2707560"/>
            <a:ext cx="459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 rot="16200000">
            <a:off x="1380960" y="3905280"/>
            <a:ext cx="26524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nžinjerske karakterostik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935440" y="2371680"/>
            <a:ext cx="167148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Karakteristik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dijelo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14"/>
          <p:cNvSpPr/>
          <p:nvPr/>
        </p:nvSpPr>
        <p:spPr>
          <a:xfrm>
            <a:off x="2940120" y="1690560"/>
            <a:ext cx="16412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4848120" y="2903400"/>
            <a:ext cx="195264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6"/>
          <p:cNvSpPr/>
          <p:nvPr/>
        </p:nvSpPr>
        <p:spPr>
          <a:xfrm rot="5400000">
            <a:off x="4671000" y="2707200"/>
            <a:ext cx="459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7"/>
          <p:cNvSpPr/>
          <p:nvPr/>
        </p:nvSpPr>
        <p:spPr>
          <a:xfrm rot="16200000">
            <a:off x="3518640" y="4042440"/>
            <a:ext cx="26524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arakteristike dijel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4848120" y="2371680"/>
            <a:ext cx="195264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Ključne proces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per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19"/>
          <p:cNvSpPr/>
          <p:nvPr/>
        </p:nvSpPr>
        <p:spPr>
          <a:xfrm>
            <a:off x="4851360" y="1690560"/>
            <a:ext cx="192420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7180200" y="2903400"/>
            <a:ext cx="171288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1"/>
          <p:cNvSpPr/>
          <p:nvPr/>
        </p:nvSpPr>
        <p:spPr>
          <a:xfrm rot="5400000">
            <a:off x="6760080" y="2707200"/>
            <a:ext cx="459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5875200" y="3908160"/>
            <a:ext cx="26528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ljučne procesne opera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7182000" y="2371680"/>
            <a:ext cx="170964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Zahtjev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proizvodn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24"/>
          <p:cNvSpPr/>
          <p:nvPr/>
        </p:nvSpPr>
        <p:spPr>
          <a:xfrm>
            <a:off x="7182000" y="1690560"/>
            <a:ext cx="17096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92088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225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5241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7473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29"/>
          <p:cNvSpPr/>
          <p:nvPr/>
        </p:nvSpPr>
        <p:spPr>
          <a:xfrm rot="2378400">
            <a:off x="2092320" y="2463480"/>
            <a:ext cx="426960" cy="303120"/>
          </a:xfrm>
          <a:prstGeom prst="rightArrow">
            <a:avLst>
              <a:gd name="adj1" fmla="val 50000"/>
              <a:gd name="adj2" fmla="val 352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30"/>
          <p:cNvSpPr/>
          <p:nvPr/>
        </p:nvSpPr>
        <p:spPr>
          <a:xfrm rot="2378400">
            <a:off x="4381560" y="2512800"/>
            <a:ext cx="426960" cy="303120"/>
          </a:xfrm>
          <a:prstGeom prst="rightArrow">
            <a:avLst>
              <a:gd name="adj1" fmla="val 50000"/>
              <a:gd name="adj2" fmla="val 352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31"/>
          <p:cNvSpPr/>
          <p:nvPr/>
        </p:nvSpPr>
        <p:spPr>
          <a:xfrm rot="2378400">
            <a:off x="6659280" y="2491920"/>
            <a:ext cx="426960" cy="303480"/>
          </a:xfrm>
          <a:prstGeom prst="rightArrow">
            <a:avLst>
              <a:gd name="adj1" fmla="val 50000"/>
              <a:gd name="adj2" fmla="val 3517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212760" y="56340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uć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2184480" y="563400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Razvoj dijel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4"/>
          <p:cNvSpPr/>
          <p:nvPr/>
        </p:nvSpPr>
        <p:spPr>
          <a:xfrm>
            <a:off x="4782960" y="56340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laniranje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5"/>
          <p:cNvSpPr/>
          <p:nvPr/>
        </p:nvSpPr>
        <p:spPr>
          <a:xfrm>
            <a:off x="6694560" y="5634000"/>
            <a:ext cx="21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laniranje proizvod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684360" y="47628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Transfer kupčevih zahtjeva u proizvodnju kroz QF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Zairi, 1999, str. 3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Kuća kvaliteta”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Line 3"/>
          <p:cNvSpPr/>
          <p:nvPr/>
        </p:nvSpPr>
        <p:spPr>
          <a:xfrm flipV="1">
            <a:off x="2916360" y="4005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1908000" y="1341360"/>
            <a:ext cx="6254640" cy="4652280"/>
            <a:chOff x="1908000" y="1341360"/>
            <a:chExt cx="6254640" cy="4652280"/>
          </a:xfrm>
        </p:grpSpPr>
        <p:pic>
          <p:nvPicPr>
            <p:cNvPr id="317" name="Picture 5" descr=""/>
            <p:cNvPicPr/>
            <p:nvPr/>
          </p:nvPicPr>
          <p:blipFill>
            <a:blip r:embed="rId1"/>
            <a:srcRect l="7680" t="0" r="2807" b="0"/>
            <a:stretch/>
          </p:blipFill>
          <p:spPr>
            <a:xfrm>
              <a:off x="1908000" y="1341360"/>
              <a:ext cx="62546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6"/>
            <p:cNvSpPr/>
            <p:nvPr/>
          </p:nvSpPr>
          <p:spPr>
            <a:xfrm>
              <a:off x="5703480" y="203220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Times New Roman"/>
                </a:rPr>
                <a:t>marketing informacije i ocjena korisnika-kupca postojeceg proizvoda u odnosu na one na trzistu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 flipV="1">
              <a:off x="5414760" y="2607840"/>
              <a:ext cx="504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8"/>
            <p:cNvSpPr/>
            <p:nvPr/>
          </p:nvSpPr>
          <p:spPr>
            <a:xfrm>
              <a:off x="4838400" y="5488200"/>
              <a:ext cx="1513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Times New Roman"/>
                </a:rPr>
                <a:t>Tehnicko uporedjenje sa proizvodima konkurentskih firm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 flipH="1" flipV="1">
              <a:off x="4406760" y="5271840"/>
              <a:ext cx="50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Rectangle 10"/>
          <p:cNvSpPr/>
          <p:nvPr/>
        </p:nvSpPr>
        <p:spPr>
          <a:xfrm>
            <a:off x="539640" y="5950080"/>
            <a:ext cx="8280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uće kvaliteta predstavljaju matrice koje se formiraju tako da u svakoj fazi imaju isti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snovni izgled. Na ulazu u "kuću kvaliteta", u l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oj koloni, uv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k je pitanje: "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ŠT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ht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a?", a na izlazu iz "kuće kvaliteta" uvek je odgovor: "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AKO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puniti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ht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?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Izgled “kuće kvaliteta”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692360" y="1268280"/>
            <a:ext cx="5832360" cy="5329440"/>
            <a:chOff x="1692360" y="1268280"/>
            <a:chExt cx="5832360" cy="5329440"/>
          </a:xfrm>
        </p:grpSpPr>
        <p:grpSp>
          <p:nvGrpSpPr>
            <p:cNvPr id="326" name="Group 2"/>
            <p:cNvGrpSpPr/>
            <p:nvPr/>
          </p:nvGrpSpPr>
          <p:grpSpPr>
            <a:xfrm>
              <a:off x="1692360" y="2948040"/>
              <a:ext cx="936720" cy="2779560"/>
              <a:chOff x="1692360" y="2948040"/>
              <a:chExt cx="936720" cy="2779560"/>
            </a:xfrm>
          </p:grpSpPr>
          <p:sp>
            <p:nvSpPr>
              <p:cNvPr id="327" name="Rectangle 3"/>
              <p:cNvSpPr/>
              <p:nvPr/>
            </p:nvSpPr>
            <p:spPr>
              <a:xfrm>
                <a:off x="1692360" y="2948040"/>
                <a:ext cx="936720" cy="27795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Text Box 4"/>
              <p:cNvSpPr/>
              <p:nvPr/>
            </p:nvSpPr>
            <p:spPr>
              <a:xfrm rot="16200000">
                <a:off x="860760" y="4125960"/>
                <a:ext cx="254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1. ZAHTJEVI KUPAC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5"/>
            <p:cNvGrpSpPr/>
            <p:nvPr/>
          </p:nvGrpSpPr>
          <p:grpSpPr>
            <a:xfrm>
              <a:off x="2916360" y="2948040"/>
              <a:ext cx="3384360" cy="2779560"/>
              <a:chOff x="2916360" y="2948040"/>
              <a:chExt cx="3384360" cy="2779560"/>
            </a:xfrm>
          </p:grpSpPr>
          <p:sp>
            <p:nvSpPr>
              <p:cNvPr id="330" name="Rectangle 6"/>
              <p:cNvSpPr/>
              <p:nvPr/>
            </p:nvSpPr>
            <p:spPr>
              <a:xfrm>
                <a:off x="2916360" y="2948040"/>
                <a:ext cx="3384360" cy="27795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7"/>
              <p:cNvSpPr/>
              <p:nvPr/>
            </p:nvSpPr>
            <p:spPr>
              <a:xfrm>
                <a:off x="3563640" y="3875040"/>
                <a:ext cx="22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4. MEĐUODNOS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8"/>
            <p:cNvGrpSpPr/>
            <p:nvPr/>
          </p:nvGrpSpPr>
          <p:grpSpPr>
            <a:xfrm>
              <a:off x="6588000" y="2948040"/>
              <a:ext cx="936720" cy="2779560"/>
              <a:chOff x="6588000" y="2948040"/>
              <a:chExt cx="936720" cy="2779560"/>
            </a:xfrm>
          </p:grpSpPr>
          <p:sp>
            <p:nvSpPr>
              <p:cNvPr id="333" name="Rectangle 9"/>
              <p:cNvSpPr/>
              <p:nvPr/>
            </p:nvSpPr>
            <p:spPr>
              <a:xfrm>
                <a:off x="6588000" y="2948040"/>
                <a:ext cx="936720" cy="27795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10"/>
              <p:cNvSpPr/>
              <p:nvPr/>
            </p:nvSpPr>
            <p:spPr>
              <a:xfrm rot="16200000">
                <a:off x="5756040" y="4184280"/>
                <a:ext cx="254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2. MATRICA PLANIRANJ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1"/>
            <p:cNvGrpSpPr/>
            <p:nvPr/>
          </p:nvGrpSpPr>
          <p:grpSpPr>
            <a:xfrm>
              <a:off x="2916360" y="2133720"/>
              <a:ext cx="3384360" cy="693720"/>
              <a:chOff x="2916360" y="2133720"/>
              <a:chExt cx="3384360" cy="693720"/>
            </a:xfrm>
          </p:grpSpPr>
          <p:sp>
            <p:nvSpPr>
              <p:cNvPr id="336" name="Rectangle 12"/>
              <p:cNvSpPr/>
              <p:nvPr/>
            </p:nvSpPr>
            <p:spPr>
              <a:xfrm>
                <a:off x="2916360" y="2133720"/>
                <a:ext cx="3384360" cy="69372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Text Box 13"/>
              <p:cNvSpPr/>
              <p:nvPr/>
            </p:nvSpPr>
            <p:spPr>
              <a:xfrm>
                <a:off x="3348000" y="2307240"/>
                <a:ext cx="273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3. TEHNIČKE KARAKTERISTIK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AutoShape 15"/>
            <p:cNvSpPr/>
            <p:nvPr/>
          </p:nvSpPr>
          <p:spPr>
            <a:xfrm>
              <a:off x="2916360" y="1268280"/>
              <a:ext cx="3457440" cy="78912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16"/>
            <p:cNvSpPr/>
            <p:nvPr/>
          </p:nvSpPr>
          <p:spPr>
            <a:xfrm>
              <a:off x="3419640" y="1484280"/>
              <a:ext cx="259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Arial"/>
                </a:rPr>
                <a:t>5. KORELACIONA MATRICA (KROV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" name="Group 17"/>
            <p:cNvGrpSpPr/>
            <p:nvPr/>
          </p:nvGrpSpPr>
          <p:grpSpPr>
            <a:xfrm>
              <a:off x="2916360" y="5843520"/>
              <a:ext cx="3384360" cy="754200"/>
              <a:chOff x="2916360" y="5843520"/>
              <a:chExt cx="3384360" cy="75420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2916360" y="5843520"/>
                <a:ext cx="3384360" cy="754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Text Box 19"/>
              <p:cNvSpPr/>
              <p:nvPr/>
            </p:nvSpPr>
            <p:spPr>
              <a:xfrm>
                <a:off x="3203280" y="6077160"/>
                <a:ext cx="2952360" cy="307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6. CILJNE VRIJEDNOST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ffff"/>
                </a:solidFill>
                <a:latin typeface="Times New Roman"/>
              </a:rPr>
              <a:t>Postupak izrade QFD analize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258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ormiranje multifunkcionalnog tim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stručnjaka koji učestvuju u razvoju proizvoda kroz različite procese (marketing, razvoj, projektovanje, nabavka, izvođenje/proizvodnja, obezbeđenje kvaliteta itd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1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značajnih karakteristika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rijentacija tima prema procesu i ciljevima. Upoznavanje članova tima sa podacima potreba i kupca (glas kupca) koji predstavljaju lijevu (1) i desnu stranu (6) redova kuće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tvrđivanje zahtjeva kupa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ngiranje utvrđenih zahtjeva prema važ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Kreiranje karakteristika proizvoda sa mjerljivim performansama koje se unose na kolone (2) na vrhu matrice – timski rad (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tvrđivanje dizajnerskih i tehničkih rješenj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vezivanje performansi proizvoda sa potrebama kupca (glasa kupca sa glasom kompanije). Međusobne veze se ocjenjuju: 4 - jake veze, 3 - srednje veze, 2 - slabe veze, i 1 - nema vez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tvrđivanje međusobnih odnosa (3) između različitih performansi proizvoda u kući kvaliteta (krov kvaliteta), na osnovu prethodno utvrđenih veza. Ocjene veza: 4 - jako pozitivni, 3 - pozitivni, 2 - negativni, i 1 - jako negativn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rioritizacija rešenja (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ngiranje najvažnijih dizajnerskih i tehničkih rješenja)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- završna faza u QFD procesu uključuje izradu matričnih kalkulacija, identifikaciju najviših prioriteta, razvoj specifičnih karakteristika, rešenja, procesa i programa za njihovo unapređenje 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2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kritičnih d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ova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3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kritičnih parametara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4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postup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7043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Faza 1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Utvrđivanje značajnih karakteristika proizvod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43272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računarske sale na univerzitetu</a:t>
            </a:r>
            <a:br>
              <a:rPr sz="24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đivanje zahtjeva korisnika, njihovo rangiranje i identifikacija karakteristika proizvod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5175000" cy="408636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33"/>
          <p:cNvGrpSpPr/>
          <p:nvPr/>
        </p:nvGrpSpPr>
        <p:grpSpPr>
          <a:xfrm>
            <a:off x="3564000" y="4581360"/>
            <a:ext cx="4895280" cy="2276280"/>
            <a:chOff x="3564000" y="4581360"/>
            <a:chExt cx="4895280" cy="2276280"/>
          </a:xfrm>
        </p:grpSpPr>
        <p:pic>
          <p:nvPicPr>
            <p:cNvPr id="350" name="Picture 30" descr=""/>
            <p:cNvPicPr/>
            <p:nvPr/>
          </p:nvPicPr>
          <p:blipFill>
            <a:blip r:embed="rId2"/>
            <a:stretch/>
          </p:blipFill>
          <p:spPr>
            <a:xfrm>
              <a:off x="3564000" y="4598280"/>
              <a:ext cx="4895280" cy="22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32"/>
            <p:cNvSpPr/>
            <p:nvPr/>
          </p:nvSpPr>
          <p:spPr>
            <a:xfrm>
              <a:off x="6790680" y="4581360"/>
              <a:ext cx="1666440" cy="48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f"/>
                </a:solidFill>
                <a:latin typeface="Times New Roman"/>
              </a:rPr>
              <a:t>Kontrolne liste (cheklists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70000" y="194580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ntrolne liste (cheklsits) 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= obrasci z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 prikupljanje podatak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ostupak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Utvrđivanje cilja prikupljanja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Identifikovanje potrebnih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Određivanje načina, perioda i mjesta prikuplj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Izrada obras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rovjera obrasca prikupljanjem i zapisivanjem nekih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reispitivanje i revidiranje obrasca ako je potreb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đivanje zahtjeva korisnika, njihovo rangiranje i identifikacija karakteristika proizvoda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1187280" y="1946160"/>
            <a:ext cx="6909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atrica međuodnos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2124000" y="1897200"/>
            <a:ext cx="58723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Tehnička matric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1619280" y="1946160"/>
            <a:ext cx="6012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rov kuće kvalitet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9770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Koncept šest sigma (Six sigma, 6</a:t>
            </a:r>
            <a:r>
              <a:rPr b="0" lang="el-GR" sz="2400" spc="-1" strike="noStrike">
                <a:solidFill>
                  <a:srgbClr val="00ffff"/>
                </a:solidFill>
                <a:latin typeface="Arial"/>
                <a:ea typeface="Arial"/>
              </a:rPr>
              <a:t>σ</a:t>
            </a: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1125360"/>
            <a:ext cx="78994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Šest sigma je unapređenje poslovanja zasnovano na pronalaženju i eliminisanju grešaka i uzroka pojave grešaka ili defekata u procesima, usredsređivanjem pažnje na izlazne parametre,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Arial"/>
              </a:rPr>
              <a:t>kritičn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važne za korisnik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Šest sigma je strategijski prilaz za sve procese, proizvode i kompanije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Arial"/>
              </a:rPr>
              <a:t>Six Sigma koncept je razvijen kod Moorole sredinom 1980-tih godina za analizu njihovih procesa proizvodnje i eliminaciju defekata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Glavna područja na koja se usredsređuje šest sigma su: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boljšanje zadovoljstva korisnika;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ciklusa vremena 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manjenje grešaka proizvod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tatistički gledano "Šest sigma" predstavlja iznos varijacije prikazane u procesu koji je povezan sa zahtevima korisnika ili njihovim specifikacijama . Kada proces deluje na nivou "Šest sigma", varijacija je tako mala da rezultira tačnošću od 99,9997 % ili pojavom samo 3,4 greške na milion mogućnos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"Šest sigma" metodologija je fokusirana na jedan cilj: osigurati da su proizvodi i usluge blizu savršenstva. Da bi se to postiglo koriste se stroge statističke tehnike i metodologije, bazirane na merljivim podacima, kojima je cilj kontrola kvalit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Za poboljšanje organizacijskog nivoa "Šest sigma" procesa potrebno je smanjiti količinu varijacija koje se pojavljuju. Postojanje manjeg broja varijacija donosi sledeće prednosti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bolja predvidivost procesa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eliminacije grešaka na najmanjem mogućem nivou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vremena proizvodnje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troškova proizvodnje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boljšanje produktivnosti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Metodologija primjene šest sigm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1125360"/>
            <a:ext cx="78994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vi glavni problemi u okviru šest sigme rešavaju se pomoću metodologije DMAIC (Define - definisanje ili određivanje, Measure - merenje, Analyze - analiziranje, Improve - poboljšanje ili unapređenje i Controle - kontrola ili upravljanje). Ovom metodom mogu se naučiti tehnike: kako prikupiti podatke, koliko ih koristiti i koliko ih često prebrojiti i kako biti fleksibilan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48960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Dijagram uzrok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-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 posljedica (Ishikawa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dijagram, d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ijagram riblja kost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31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ncipi izrad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Selekcija: definisanje stanja sistema (posljedic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zvrstavanje: gruupisanje i rangiranje uzroka (uticajnih faktora na stanje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vezivanje: logičko povezivanje uzroka (uticajnih faktora) i posljedica (stanja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mjena: sistemstko istraživanje i identifikaciju glavnih uzroka određenog proble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snovni koraci primjen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efinisanje (određivanje) problema (ovo može biti i cilj, ili željeno stanje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dentifikovanje (određivanje) glavnih uzroka (kategorija=familija uzro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ređivanje poduzroka, najdalje do trećeg nivo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ostupak primjen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Jasno definisati posljedice, odnosno problem, odnosno željeno sstanje sistema)- upisuje se na desnoj strani i od njega se vuče ulijevo horizontalna linija („kičma” dijagra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dentifikovati i razvrstati moguće uzroke po kategorijama (ljudi, okruženje, oprema, metode...)- predvidjeti od 3 do 8 kategorija uzro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crtati "riblju kost" koristeći odgovarajuće kategorije (familije) uzroka, npr. ljudi, okruženje, oprema, metode..., spajajući ih sa kičmom dijagra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zmotriti podfamilije uzroka (koristeći na primjer metodu Brainstorming) i zabilježiti ih na dijagram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stupak širenja - grananja - povećavati nivo detaljnosti za svaki od uzroka na osnovnoj strukturi, spajajući ih horizontalnim linijama sa glavnom sstrelicom grupe uzroka (ne ići više od 3 nivo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Analiza dijagrama - analiza svih uzroka, utvrđivanje nivoa njihovog uticaja (dodjeljivanjem težinskih koeficijenata najprijena glavne grane, a zatim na niže nivoe i preračun relativnih težina koje odgovaraju pojedinačnim faktorima)) i predlaganje korektivnih mjera i redosljeda primjene za njihovo otklanjan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dijagrama sa 5 grupa uzr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848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MJER DIJAGRAMA ZA ANALIZU PRETJERANE POTROŠNJE GORI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2824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mjer primjene isikava dijagrama za upravljanje kvalitetom u „projektuj i izgradi“ projektim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116000" y="1782720"/>
            <a:ext cx="71280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4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trolne karte: grafici u kojima se prikazuje ponašanje procesa u vremenu i služe za ocenjivanje da li se proces odvija na zadovoljavajući nač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zvio je Shewhart 1920. godine da bi razlikovao slučajne od sistemskih varijacija*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običajeni (slučajni) uzroci varijacija: metode, materijali, mašine, ljudi i sredina ili osvetljenje u fabrici,  klasa potrebnog  sirovog materijala,  obučenost radnika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sebni ili specifični (sistemske varijacije) uzroci varijacija: radnik slučajno napravi grešku na kontrolnoj tabli, radnik se razboli na poslu i nastavi da radi, mašina se rašteluje, nepažljivi dobavljač isporuči seriju materijala lošeg kvaliteta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imjena -svakodnevno praćenje parametara procesa i za signalizaciju kada proces pređe utvrđene granice – detektovanje sistema koji su van kontr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Slučajevi korišćenj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ijagnoza: ocenjivanje stabilnosti proces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trola: odrediti kada je proces potrebno korigovati (podesiti) ili kada ga je, u postojećem obliku, potrebno napustit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tvrda: potvrditi da li je, nakon izvršenih zahvata - korekcija, došlo do poboljšanja proces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tupak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ređivanje središnje linije (na osnovu aritmetičkih sredina uzoraka (svaki uzorak obuhvata po nekoliko jedin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računavanje kontrolnih granica (na osnovu zakona vjerovatnoć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Crtanje kontrolne karte (na osnovu prikupljenih statističkih podataka tokom vreme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naliza kontrolne k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2:15:49Z</dcterms:created>
  <dc:creator>Gradjevinski fakultet Podgorica</dc:creator>
  <dc:description/>
  <dc:language>en-US</dc:language>
  <cp:lastModifiedBy>Toshiba</cp:lastModifiedBy>
  <dcterms:modified xsi:type="dcterms:W3CDTF">2019-05-12T20:01:50Z</dcterms:modified>
  <cp:revision>458</cp:revision>
  <dc:subject/>
  <dc:title>Alati i metode za upravljanje kvalitetom</dc:title>
</cp:coreProperties>
</file>